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8A6-DB89-429E-8A6D-5E6790D9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317-9945-436C-B8C9-A48FEE5A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968-437B-4915-93FA-3AD83FCC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B97-66C0-4E80-8B26-E745E49B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FBE-9E14-4438-B97C-C743D471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A9C-FD38-4930-A8E7-127F6ED1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DE1-D189-4F80-A897-41D64BF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C94-1035-411C-A980-8F41AD2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D76-5D39-4EEF-A255-216C0E6D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7DD-23E4-47B0-A38C-7C60D0D2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B72-1AD5-4C72-A96F-68566BEF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424-93E4-4B64-BFF3-6F319B1C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6A8D93-2813-492A-B172-9B700431B94D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ipv.ru/" TargetMode="External"/><Relationship Id="rId2" Type="http://schemas.openxmlformats.org/officeDocument/2006/relationships/hyperlink" Target="http://cipv.ru/" TargetMode="External"/><Relationship Id="rId3" Type="http://schemas.openxmlformats.org/officeDocument/2006/relationships/hyperlink" Target="http://cipv.ru/" TargetMode="External"/><Relationship Id="rId4" Type="http://schemas.openxmlformats.org/officeDocument/2006/relationships/hyperlink" Target="http://cipv.ru/" TargetMode="External"/><Relationship Id="rId5" Type="http://schemas.openxmlformats.org/officeDocument/2006/relationships/hyperlink" Target="http://cipv.ru/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-2318400"/>
            <a:ext cx="8064360" cy="13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ahoma"/>
              </a:rPr>
              <a:t>Реализация государственной политики по формиров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ahoma"/>
              </a:rPr>
              <a:t>культуры здорового и безопасного образа жизни обучающихся</a:t>
            </a: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Берез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Валентина Александ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чальник отдела Департамента воспитания и  социализации детей Минобрнаук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Моск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2 декабря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ентябрь -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662-7607-4D8E-876A-C7A59B815E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410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оличество школ и учащихся,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ключенных в реализацию проекта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209680"/>
            <a:ext cx="8534160" cy="286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008 год - 456 школ, 260 922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009 год - 675 школ, 379 561 уча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2010 год - 295 школ, 162 477 учащихся.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6A6-14B5-4470-85AD-49FE89A3C3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549000"/>
            <a:ext cx="78850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23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анные о количестве ДТП с участием детей, числе погибших и получивших ранения несовершеннолетних за 2007–2009 гг.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699920"/>
            <a:ext cx="8642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Показатели:      2007г.     2008г.     2009г.      2009/2008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                                                                  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+/-, 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Всего число ДТП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с участием детей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23851      21970        19970          -9,1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Погибло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детей  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1116        1018            846           -16,9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Ранено детей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24707      22785         20869         -8,4%</a:t>
            </a:r>
            <a:r>
              <a:rPr b="1" lang="ru-RU" sz="1900" spc="-1" strike="noStrike">
                <a:solidFill>
                  <a:srgbClr val="b2b2b2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67C-3BED-4214-A338-CB08961135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249120"/>
            <a:ext cx="767880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ru-RU" sz="27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b2b2b2"/>
                </a:solidFill>
                <a:latin typeface="Tahoma"/>
              </a:rPr>
              <a:t>  </a:t>
            </a:r>
            <a:r>
              <a:rPr b="1" lang="ru-RU" sz="3000" spc="-1" strike="noStrike">
                <a:solidFill>
                  <a:srgbClr val="000066"/>
                </a:solidFill>
                <a:latin typeface="Tahoma"/>
              </a:rPr>
              <a:t>ДТП с участием детей – пешеходов </a:t>
            </a:r>
            <a:br>
              <a:rPr sz="3000"/>
            </a:br>
            <a:r>
              <a:rPr b="1" lang="ru-RU" sz="3000" spc="-1" strike="noStrike">
                <a:solidFill>
                  <a:srgbClr val="000066"/>
                </a:solidFill>
                <a:latin typeface="Tahoma"/>
              </a:rPr>
              <a:t>и их последствия,   2007–2009 гг.</a:t>
            </a:r>
            <a:br>
              <a:rPr sz="3000"/>
            </a:b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9360">
            <a:solidFill>
              <a:srgbClr val="a50021"/>
            </a:solidFill>
            <a:round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Показатели:               2007г.             2008г.          2009г.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В ДТП с участием детей-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пешеходов погибло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          451                  390              363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Число наездов на детей-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пешеходов на пешеходных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переходах по вине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водителей,             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-                   1902             210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в том числе: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- погибло детей 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-                       40                 43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a50021"/>
                </a:solidFill>
                <a:latin typeface="Tahoma"/>
              </a:rPr>
              <a:t>- ранено детей</a:t>
            </a:r>
            <a:r>
              <a:rPr b="0" lang="ru-RU" sz="2200" spc="-1" strike="noStrike">
                <a:solidFill>
                  <a:srgbClr val="a50021"/>
                </a:solidFill>
                <a:latin typeface="Tahoma"/>
              </a:rPr>
              <a:t>         </a:t>
            </a: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          -                    2123             23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195-DD17-4F17-AB7A-199039D3A9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рамках мероприятий ФЦП «Повышение безопасности  дорожного движени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2006-2012 годах»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752480"/>
            <a:ext cx="871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Построено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- 2 федеральных экспериментальных центра</a:t>
            </a:r>
            <a:br>
              <a:rPr sz="1900"/>
            </a:b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«Детский автогород» в Ульяновске и Владивостоке, завершается строительство такого центра</a:t>
            </a:r>
            <a:br>
              <a:rPr sz="1900"/>
            </a:b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в ВДЦ «Орленок» (Краснодарский край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- 15 детских автогородков с организацией на их основе базовых учебно-методических центр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Создано:</a:t>
            </a:r>
            <a:r>
              <a:rPr b="0" lang="ru-RU" sz="3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- 18 центров по подготовке и повышению квалификации специалистов, занимающихся обучением водителей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ru-RU" sz="1900" spc="-1" strike="noStrike">
                <a:solidFill>
                  <a:srgbClr val="a50021"/>
                </a:solidFill>
                <a:latin typeface="Tahoma"/>
              </a:rPr>
              <a:t>- 8 базовых учреждений среднего и начального профессионального образования по подготовке и переподготовке водителей транспортных средст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17960" indent="-417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810-AC00-440A-9FC4-9E9F0B4168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Задачи по профилактике детского дорожно-транспортного травматизма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 перспективу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1752480"/>
            <a:ext cx="871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Закрепить в новых федеральных государственных образовательных стандартах комплексный подход к формированию основ транспортной культуры и навыков безопасного участия детей в дорожном движен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Развивать сотрудничество с другими заинтересованными министерства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Сформировать единую систему обучения безопасному участию в дорожном движении в образовательных учреждениях всех тип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Обеспечить подготовку, экспертизу, апробирование и распространение современных печатных и электронных учебных и методических пособий по обучению школьников безопасному участию в дорожном движен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Разработать комплекс дополнительных мер по обеспечению безопасности перевозки детей в школьных автобус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Активизировать работу с родителями и педагогическими работниками образовательных учреждений по формированию основ   культуры  безопасного поведения  участников дорожного движения, профилактике детского дорожно-транспортного травматизм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DCF-2879-423C-AFF8-01159387F7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975040"/>
            <a:ext cx="81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Arial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4CE-3C91-4435-ABE7-0F688C876911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ahoma"/>
              </a:rPr>
              <a:t>Нормативно-правовое обеспечение  охраны и укрепления здоровья детей </a:t>
            </a:r>
            <a:br>
              <a:rPr sz="3000"/>
            </a:br>
            <a:r>
              <a:rPr b="1" lang="ru-RU" sz="3000" spc="-1" strike="noStrike">
                <a:solidFill>
                  <a:srgbClr val="000066"/>
                </a:solidFill>
                <a:latin typeface="Tahoma"/>
              </a:rPr>
              <a:t>в системе образования 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4978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Концепция</a:t>
            </a: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олгосрочного социально-экономического развития до 2020 года, раздел 3.4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«Образование» (одобрена Правительством РФ 1 октября 2008 года, протокол №3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2. Основные направления Правительства РФ на период до 2012 года (от 17 ноября 2008 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       № </a:t>
            </a: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1663-р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3. Послание Президента Российско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Федерации Федеральному собранию (2008, 2009, 2010 гг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808-4E79-4668-9FA6-8BB95F2417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1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ОСЛАНИЕ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ФЕДЕРАЛЬНОМУ СОБРАНИЮ</a:t>
            </a:r>
            <a:br>
              <a:rPr sz="32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(30 ноября 2010 г.)</a:t>
            </a: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92360" y="2205000"/>
            <a:ext cx="5461200" cy="4046400"/>
          </a:xfrm>
          <a:prstGeom prst="rect">
            <a:avLst/>
          </a:prstGeom>
          <a:noFill/>
          <a:ln w="9360">
            <a:solidFill>
              <a:srgbClr val="a50021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26 миллионов детей и подростков, живущих в нашей стране, должны полноценно развиваться, расти здоровыми и счастливыми, стать её достойными гражданами. Это задача номер один для всех нас»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2952720" cy="3745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35280" y="2133720"/>
            <a:ext cx="51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474-33BA-4FB6-B06C-F3ADA84A43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181080"/>
            <a:ext cx="779292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овая структура ФГОС </a:t>
            </a:r>
            <a:br>
              <a:rPr sz="32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(изменение федеральных государственных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тандартов общего образования во исполнение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ФЗ от 1 декабря 2007 г. № 309-ФЗ)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47040" cy="44895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Новая структура ФГОС включает в себя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требовани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buClr>
                <a:srgbClr val="000066"/>
              </a:buClr>
              <a:buFont typeface="Tahoma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 структуре основных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buClr>
                <a:srgbClr val="000066"/>
              </a:buClr>
              <a:buFont typeface="Tahoma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 условиям реализации основных образовательных программ, в том числе кадровым, финансовым, материально-техническим и ины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buClr>
                <a:srgbClr val="000066"/>
              </a:buClr>
              <a:buFont typeface="Tahoma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) к результатам освоения основных образовательных программ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DA3-328D-478A-814C-1771B49416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ЕРЕЧЕНЬ ОСНОВНЫХ ТРЕБОВАНИЙ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ФГОС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52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общие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требования к условиям реализации основных образовательных програм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 к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образовательным технологиям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, используемым на разных ступенях обуч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 к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кадровому обеспечению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 учетом миссии, целей и задач ОУ и потребностей участников образовательного процесс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790-DD6D-4D2E-B108-FFD656CEB0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ЕРЕЧЕНЬ ОСНОВНЫХ ТРЕБОВАНИЙ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ФГОС (продолжение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3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к учебно-методическому и информационному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беспечению образовательного процесс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к финансово-экономическому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беспечению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 требования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к материально-техническому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беспечению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санитарно-гигиенические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требования и требования к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безопас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56E-02EE-486B-AE52-0DB75112C0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533520"/>
            <a:ext cx="7791480" cy="1141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Сайт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3"/>
              </a:rPr>
              <a:t>cipv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5"/>
              </a:rPr>
              <a:t>ru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Телефон для справок: (499) 973-55-86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3920" cy="4233600"/>
          </a:xfrm>
          <a:prstGeom prst="rect">
            <a:avLst/>
          </a:prstGeom>
          <a:noFill/>
          <a:ln w="9360">
            <a:solidFill>
              <a:srgbClr val="a50021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тодические рекомендации по оценке эффективности современных инновационных здоровьесберегающих технологий в образовательных учреждениях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размещены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сайте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Федерального государственного научного учреждения «Центр исследования проблем воспитания, формирования здорового образа жизни, профилактики наркомании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  <a:ea typeface="Times New Roman"/>
              </a:rPr>
              <a:t>, социально-педагогической поддержки детей и молодеж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133-DAE3-4FE2-8CF2-CAC755220B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Субъекты Российской Федерации – участники эксперимента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55640" y="1916280"/>
          <a:ext cx="7561440" cy="4991040"/>
        </p:xfrm>
        <a:graphic>
          <a:graphicData uri="http://schemas.openxmlformats.org/drawingml/2006/table">
            <a:tbl>
              <a:tblPr/>
              <a:tblGrid>
                <a:gridCol w="2303640"/>
                <a:gridCol w="2520720"/>
                <a:gridCol w="2737080"/>
              </a:tblGrid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008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. Алтай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 Калининград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 Калуж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. Кемер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. Краснодар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6. Краснояр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 Липец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. Оренбург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. Пензе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. Республика Татарстан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1. Рост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2. г. Санкт-Петербур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3. Ставропольский кр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4. Тамб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009 г. – в эксперимент дополнительно включилис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. Архангель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 Ом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 Республика Башкорто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. Республика Мордо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. Республика Северная Осетия – Ал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6. Самар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 Удмуртская Республ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010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Из участников 2008 г.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. Кемеров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 Краснодарский кр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 Тамбов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Из участников 2009 г.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. Республика Мордов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. Республика Северная Осетия – Ала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6. Самар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Дополнительно включились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 Камчатский кр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. Киров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. Курган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. Ленинград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1. Кабардино-Балкарская Республика 12. Республика  Саха (Якути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3. Республика Алт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4. Республика Хакас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5. Чувашская Республика – Чуваш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6. Твер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7. Хабаровский кра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8. Ярославская облас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8AB-0BB3-41CC-94FA-588D17007D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Цель экспериментального проекта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поручение Президента Российской Федерации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 10 декабря 2005 г. № Пр-2065)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70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Отработать все аспекты организации школьного питания по разным моделя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1)  технологи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2)  организационно-управлен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3)  кадровые вопросы, связанные с внедрением современных технологий в сферу школьного пит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4)  финансово-экономи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5)  нормативно-правовы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6)  обеспечение организационно-просветительской работы с родителями и педагогическим коллективом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65F-FE28-4C5E-8DC8-D6591EC7BC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7:29Z</dcterms:created>
  <dc:creator>Uskov</dc:creator>
  <dc:description/>
  <dc:language>en-US</dc:language>
  <cp:lastModifiedBy>Пользователь</cp:lastModifiedBy>
  <dcterms:modified xsi:type="dcterms:W3CDTF">2010-12-01T22:09:59Z</dcterms:modified>
  <cp:revision>95</cp:revision>
  <dc:subject/>
  <dc:title>Слайд 1</dc:title>
</cp:coreProperties>
</file>