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288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97240" y="499680"/>
            <a:ext cx="33336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92160" y="3166560"/>
            <a:ext cx="794376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2464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2B5-F602-475A-B595-C629B0AA86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62464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487-22C8-43ED-962D-667CFBD931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633420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86080" y="519120"/>
            <a:ext cx="3359160" cy="2519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23720" y="3185640"/>
            <a:ext cx="7280280" cy="29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430-9093-4F87-BFB1-4C70F33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376-344D-497D-8114-179CA8D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B29-2162-4091-BE1F-617928D8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45C-2E0A-44A8-9371-6623B9C4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66AD-6044-43B6-BEE8-9041B9C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6059E-F754-4586-92D0-1E27A68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414DB-2275-475D-A10F-87D4792C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9514-EBD9-4262-8EAD-25CE88F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2449-0ABB-4345-9BDB-90014C6E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54AF-19B4-4718-A083-61AEBF8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6B65A-082A-4A2E-A1D1-1CEADE1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E37-499D-4188-A119-073FF42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CF27-31E0-4C12-B92D-353A172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66AA9-73E5-4F38-BB85-722594E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5DCD0-78C9-409D-B8D0-8367744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07134-1835-4700-B28D-B3FB0FC3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5E3F7-30A7-45F3-9E10-3324E283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525-26F6-4889-9A41-B9F20EB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174-5DB6-4AB7-9D9E-5AD380D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8C3-1D3F-4E8C-9608-953FAB3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8CD-74DC-4E46-A82D-333A03D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689-AE51-40A8-9114-3557FD8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5CA-7937-4D60-9523-ADEDAD3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D16-5E56-4256-B7BF-1AD9FD9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924-B85F-4D4B-90F5-3A2525124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718-019D-4082-82EA-1D2A93D256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7988040" cy="32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85327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ОПТИМИЗАЦИЯ ШКО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СРЕДЫ Д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ГАРМОНИЧНОГО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ЗВИТИЯ И УКРЕПЛ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ЗДОРОВЬЯ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Lucida Console"/>
              </a:rPr>
              <a:t>Д.м.н.</a:t>
            </a: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33"/>
                </a:solidFill>
                <a:latin typeface="Bauhaus 93"/>
              </a:rPr>
              <a:t>С</a:t>
            </a:r>
            <a:r>
              <a:rPr b="1" i="1" lang="en-US" sz="2800" spc="-1" strike="noStrike">
                <a:solidFill>
                  <a:srgbClr val="ff9933"/>
                </a:solidFill>
                <a:latin typeface="Bauhaus 93"/>
              </a:rPr>
              <a:t>тепанова  Марина Исаак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Bauhaus 93"/>
              </a:rPr>
              <a:t>Москва 2.12.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2602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ahoma"/>
              </a:rPr>
              <a:t>НИИ гигиены и охраны здоровья детей и подростков НЦЗД РАМ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2276640"/>
            <a:ext cx="3047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новные компоненты организации учебного процесса в 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240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04920"/>
            <a:ext cx="2438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Объем образовательной нагрузки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66880"/>
            <a:ext cx="2895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Продолжительность учебного дня и недели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952880"/>
            <a:ext cx="2209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Расписание учебных занятий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0"/>
            <a:ext cx="2487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Стиль преподавания (авторитарный, демократический, либеральный)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421000"/>
            <a:ext cx="2952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Особенности организации профильного 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обучения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0"/>
            <a:ext cx="2590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Чередование учебы и отдыха на уроке, в течение дня, недели, года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410080"/>
            <a:ext cx="304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Программы, методы, технологии и технические средства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373720"/>
            <a:ext cx="2209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mic Sans MS"/>
              </a:rPr>
              <a:t>Комлектация и наполняемость классных коллективов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1341000"/>
            <a:ext cx="1873080" cy="10796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643280" y="1557000"/>
            <a:ext cx="0" cy="6858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213000"/>
            <a:ext cx="79236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3200400"/>
            <a:ext cx="83808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02920" y="4076640"/>
            <a:ext cx="1706760" cy="79236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21000"/>
            <a:ext cx="0" cy="9144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4005360"/>
            <a:ext cx="1078200" cy="12524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547640" y="1341000"/>
            <a:ext cx="2160720" cy="10796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551-D5CD-4DA6-A7D1-EA685B84D6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260280"/>
            <a:ext cx="8458200" cy="61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УРОВЕНЬ САНИТАРНО-ЭПИДЕМИОЛОГИЧЕСКОГО БЛАГОПОЛУЧИЯ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почти 60% учреждений по ряду критериев  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В 2,9%  - регистрируются грубые нарушения санитарно-эпидемиологического режим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В 18,6% - мебель не соответствует антропометрическим параметрам учащихся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6,5% - уровни  электромагнитных полей превышают нормы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7,1% – низкие уровни освещ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в 10,5% -</a:t>
            </a:r>
            <a:r>
              <a:rPr b="1" lang="en-US" sz="3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Lucida Console"/>
              </a:rPr>
              <a:t>микроклимат</a:t>
            </a:r>
            <a:r>
              <a:rPr b="1" lang="en-US" sz="2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947-95EE-41B2-A094-115FBA99B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A69B-FE13-4F4F-AF5A-4DC92CB005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Lucida Console"/>
              </a:rPr>
              <a:t>Оценка педагогами нагрузки учащихся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(по данным  Е.И.Степанова и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.В. Баныкиной, 2006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Результаты социологического опроса учителей школ Подмосковья показали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треть 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(33,7%)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расценивает учебную нагрузку учащихся как чрезмерную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свыше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16,0%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чрезмерной считает психическую нагруз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почти половина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(49,1%)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недостаточной считает физическую нагрузку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EC1-363E-4275-808F-674995B86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3336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ahoma"/>
              </a:rPr>
              <a:t>БЛАГОДАРЮ ЗА ВНИМАНИЕ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тепанова Марина Исааковн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Д.м.н., зав. лабораторией гигиены обучения и воспит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НИИ гигиены и охраны здоровья детей и подростков НЦЗД РАМН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5526000"/>
            <a:ext cx="1316160" cy="927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31640" y="5308560"/>
            <a:ext cx="1187640" cy="114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1603080" cy="240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796-68BF-4ADA-9B12-06B8549985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Образовательная среда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овокупность факторов, формируемая укладом жизнедеятельности школ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материальные ресурсы школ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организацию учеб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процесса, питания, медицинского обеспечения, психологический клима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81E-334E-42BE-914D-88DE1952E7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Образовательная сре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Она определяет не только успешность обучения и воспитания детей и подростков, но и гармоничность развития и состояние их здоровь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E24-A120-4103-9624-3E3F097E2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2286000"/>
            <a:ext cx="281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Факторы риска школьной сред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8600"/>
            <a:ext cx="2725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Интенсификация учебного процесса и учебные перегрузки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0"/>
            <a:ext cx="3124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Использование педагогических технологий, не адекватных функциональным возможностям детей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762120"/>
            <a:ext cx="209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Авторитарная педагогика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666880"/>
            <a:ext cx="2738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Снижение возраста начала школьного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33720"/>
            <a:ext cx="304812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Несоблюдение гигиенических требований к микроклимату, освещенности, ЭМП, учебной мебели, ТСО и др.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181480"/>
            <a:ext cx="228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Нерациональное чередование учебы и каникул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257800"/>
            <a:ext cx="347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Плохая организация школьного пита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616800" y="5257800"/>
            <a:ext cx="2527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mic Sans MS"/>
              </a:rPr>
              <a:t>Гиподинамичный характер обучения</a:t>
            </a:r>
            <a:endParaRPr b="0" lang="en-US" sz="1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599840" y="1294920"/>
            <a:ext cx="205740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1828800"/>
            <a:ext cx="0" cy="5335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43200" y="3124080"/>
            <a:ext cx="99072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343400"/>
            <a:ext cx="0" cy="6858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47280" y="3860640"/>
            <a:ext cx="2210040" cy="11430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1523520"/>
            <a:ext cx="1752480" cy="83844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789360"/>
            <a:ext cx="1819440" cy="129060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716-F8E3-4DD7-887F-6C6257F1F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260280"/>
            <a:ext cx="8458200" cy="60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УРОВЕНЬ САНИТАРНО-ЭПИДЕМИОЛОГИЧЕСКОГО БЛАГОПОЛУЧИЯ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55,8% учреждений по ряду критериев  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2,9% учреждений - регистрируются грубые нарушения санитарно-эпидемиологического режим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В 18,6% учреждений мебель не соответствует антропометрическим параметрам обучающихся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В 16,5% учреждений уровни воздействия на детей электромагнитных полей превышают нормы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В 17,1% учреждений – низкие уровни освещ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Микроклимат в 10,5% учреждениях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не соответствуют санитарно-эпидемиологическим требованиям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71-6915-44EF-9EFE-D70B75F86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Lucida Console"/>
              </a:rPr>
              <a:t>Вклад факторов школьной ср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о, что непосредственное влияние факторов внутришкольной среды на формирование здоровья учащихся составля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30-40%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2C3-B13D-43C2-97DE-36217FC83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Сегодня есть все основания считать, что вклад школьно-средовых факторов в формирование здоровья увеличился, поскольку в структуре нарушений здоровья школьников доминируют нарушения и заболевания, которые относятся к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школьно-обусловленным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2CE-98A2-4E45-B50A-1CB820EE9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ПТИМИЗАЦ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БРАЗОВАТЕЛЬНОЙ СРЕДЫ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6600"/>
                </a:solidFill>
                <a:uFillTx/>
                <a:latin typeface="Tahoma"/>
              </a:rPr>
              <a:t>ПРИОРИТЕТНАЯ</a:t>
            </a:r>
            <a:r>
              <a:rPr b="1" lang="en-US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ДАЧ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БРАЗОВАТЕЛЬН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УЧРЕЖД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431-6B8D-41CC-A130-38C916955D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Tahoma"/>
              </a:rPr>
              <a:t>ОРГАНИЗАЦИЯ УЧЕБНОГО ПРОЦЕССА 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ОДИН ИЗ НАИБОЛЕЕ УПРАВЛЯЕМЫХ  ФАКТОРОВ ШКОЛЬНОЙ СРЕ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D77-4F00-445A-B8B8-B35086094D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1:03:11Z</dcterms:created>
  <dc:creator>BSL</dc:creator>
  <dc:description/>
  <dc:language>en-US</dc:language>
  <cp:lastModifiedBy>Okuneva</cp:lastModifiedBy>
  <dcterms:modified xsi:type="dcterms:W3CDTF">2010-12-07T08:22:01Z</dcterms:modified>
  <cp:revision>154</cp:revision>
  <dc:subject/>
  <dc:title>U</dc:title>
</cp:coreProperties>
</file>