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0F0-BB7A-498D-BA9F-9BEBF9DC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EF8-E512-43D9-90D4-27575EB9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92D-8AF5-4AF3-91B7-CA9DA7A5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B39-72D9-4B1C-B3E8-F5900854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E96-78A0-4495-90D3-D6AB8F72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05C-1ABC-43A3-8AC9-74C5C24B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63A-2009-4744-97BA-54304B52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4BD-7E0A-4AFA-A36C-47CCDE9C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543-BB87-45A8-9A30-ABD188B6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A0B-7BB1-437C-B792-18279A1B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78A-0B3E-43B1-9770-FE264EED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C56-35F1-4B00-8E85-0B547182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33AB-AA8C-4E82-BFC1-6BD8E41389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SCN0711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И ГИГИЕНЫ И ОХРАНЫ ЗДОРОВЬЯ ДЕТЕЙ И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8715600" cy="34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В.Чуба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ЦИАЛЬНО-ПСИХОЛОГИЧЕСКИЕ АСПЕКТЫ ОХРАНЫ И УКРЕПЛЕНИЯ ЗДОРОВЬЯ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ОСКВА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9144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УЧНЫЙ ЦЕНТР ЗДОРОВЬЯ ДЕТЕЙ РАМ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ЕДУЩИЕ МАКРОСОЦИАЛЬНЫЕ ФАКТОРЫ РИСКА ПСИХИЧЕСКОЙ ДЕЗАДАПТАЦИИ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зкое расслоение общества по материальному призна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нищание значительных социальных групп, в том числе отвечающих за охрану здоровья и формирование личности детей и подрос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 общепризнанных нравственно-этических общественных ценностей и противоречивые представления о социально одобряемых формах и способах психической адаптации формирующейся лич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спад общественных организаций, осуществлявших как педагогические функции, так и организацию свободного времени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райне негативного влияния средств массовой информации, пропагандирующих зачастую криминальные ценности, насилие, перверзные формы сексуального поведения, терпимого отношения к употреблению ряда психоактивных вещест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вязчивая реклама алкоголя, табакокур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звитие индустрии развлечений, в частности, широкое распространение игровых салонов, стимулирующих патологические формы зависимости от азартных иг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 эффективного медико-психологического контроля над преобразованиями в образовательной сфере, ведущих к резкому увеличению информационной нагрузки и  психоэмоциональному перенапряж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гативные тенденции состояния психического здоровья части педагогов и увеличение значения дидактогений в психической дезадаптаци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D7AB-F33F-4E43-AA00-AE2998B8F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Ведущие микросоциальные факторы влияющие на психосоциальное благополучие 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нутрисемейные –специфика воспитания, структура семьи, отношения родителей, алкоголизм родителей, материальное положение, наличие симблингов и проч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школьной обучающей и формирующей личность среды – отношение ребёнка с педагогами, состояние здоровья преподавателей, ролевые отношения в формальной микрогруппе, успеваемость, соответствие интеллектуальной нагрузки психофизиологическим возможностям ребёнка, психологический климат в педагогическом коллективе,  наличие доминирующих ценностных ориентиров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неформальной микрогруппы – организация свободного времени ребёнка, участие в неформальных подростковых группировках с признаками «автономной морали», ролевые функции ребёнка, чрезмерные интеллектуальные нагрузки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ИЧНОСТНЫЕ ОСОБЕННОСТИ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ояние психического и физического здоровья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обенности психотипа (преморбидные свой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вень психофизиологического разви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обенности высших психических (духовных) сиойств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пределение старших подростков -учащихся школы «Лукоморье» и обычных школ на группы здоров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619280" y="1341360"/>
          <a:ext cx="6481800" cy="49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41360"/>
                    <a:ext cx="648180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9840" y="571320"/>
            <a:ext cx="82868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АСПРОСТРАНЁННОСТЬ И СТРУКТУРА ПОГРАНИЧНЫХ ПСИХИЧЕСКИХ РАССТРОЙСТВ В ПОДРОСТКОВОМ КОНТИНГЕНТЕ УЧАЩИХСЯ ШКОЛЫ ЗДОРОВЬЯ В ЗАВИСИМОСТИ ОТ ПОЛА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-617688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4000" y="1071720"/>
          <a:ext cx="8569080" cy="5322600"/>
        </p:xfrm>
        <a:graphic>
          <a:graphicData uri="http://schemas.openxmlformats.org/drawingml/2006/table">
            <a:tbl>
              <a:tblPr/>
              <a:tblGrid>
                <a:gridCol w="1979640"/>
                <a:gridCol w="433080"/>
                <a:gridCol w="435240"/>
                <a:gridCol w="434880"/>
                <a:gridCol w="433440"/>
                <a:gridCol w="434880"/>
                <a:gridCol w="652320"/>
                <a:gridCol w="650880"/>
                <a:gridCol w="522360"/>
                <a:gridCol w="503280"/>
                <a:gridCol w="504720"/>
                <a:gridCol w="503280"/>
                <a:gridCol w="576360"/>
                <a:gridCol w="504720"/>
              </a:tblGrid>
              <a:tr h="32688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нару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невротического 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тические реакци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3.2; 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3.3; </a:t>
                      </a:r>
                      <a:r>
                        <a:rPr b="1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зы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0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21-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зоподобные состояни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6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-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36-37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5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82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;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характерологические реакции 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1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патии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патоподобные состояни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4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5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6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1;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9 -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пространенность пограничной психических расстройств и расстройств поведения в школе здоровья «Лукоморье» и традиционных школах (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601640" y="1522440"/>
          <a:ext cx="5796000" cy="46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522440"/>
                    <a:ext cx="579600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9840" y="571320"/>
            <a:ext cx="82868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АСПРОСТРАНЁННОСТЬ И СТРУКТУРА АКЦЕНТУАЦИЙ ХАРАКТЕРА В ПОДРОСТКОВОМ КОНТИНГЕНТЕ УЧАЩИХСЯ ШКОЛЫ ЗДОРОВЬЯ В ЗАВИСИМОСТИ ОТ ПОЛА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-617688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28760" y="1214280"/>
          <a:ext cx="8429400" cy="5438880"/>
        </p:xfrm>
        <a:graphic>
          <a:graphicData uri="http://schemas.openxmlformats.org/drawingml/2006/table">
            <a:tbl>
              <a:tblPr/>
              <a:tblGrid>
                <a:gridCol w="1743840"/>
                <a:gridCol w="537120"/>
                <a:gridCol w="537480"/>
                <a:gridCol w="480240"/>
                <a:gridCol w="469440"/>
                <a:gridCol w="470880"/>
                <a:gridCol w="537120"/>
                <a:gridCol w="537480"/>
                <a:gridCol w="465840"/>
                <a:gridCol w="464760"/>
                <a:gridCol w="537120"/>
                <a:gridCol w="537120"/>
                <a:gridCol w="466200"/>
                <a:gridCol w="523080"/>
                <a:gridCol w="125280"/>
              </a:tblGrid>
              <a:tr h="352440">
                <a:tc rowSpan="2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акцен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4640" rIns="44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стойчи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орм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им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астен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ер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-лаби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ои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ити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 gridSpan="15"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ространенность акцентуаций характера среди учащихся обычных школ, профессионального училища и школы здоровья «Лукоморье»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>
            <a:alphaModFix amt="99000"/>
          </a:blip>
          <a:stretch/>
        </p:blipFill>
        <p:spPr>
          <a:xfrm>
            <a:off x="1332000" y="1557360"/>
            <a:ext cx="6480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КОЛА, СОДЕЙСТВУЮЩАЯ УКРЕПЛЕНИЮ ЗДОРОВЬЯ: ОТ ДЕКЛАРАЦИИ ДО ДЕЙСТВИЙ И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ЦЕПЦИЯ (Кучма В.Р. – 200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СТРОЕНИЕ УЧЕБНОГО ПРОЦЕССА НА ПРИНЦИПАХ ВЗАИМОУВАЖЕНИЯ ПЕДАГОГОВ 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ИРОВАНИЕ КУЛЬТУРЫ ЗДОРОВЬЯ ПЕДАГОГОВ И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ЕРШЕНСТВОВАНИЕ СОЦИАЛЬНОГО ПАРТНЁРСТВА В СИСТЕМЕ «ПЕДАГОГ-УЧАЩИЙСЯ-РОДИТЕЛ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326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стояние психосоциального здоровья подрастающего поколения страны требует разработки и осуществления экстренных, комплексных, межотраслевых мероприятий по его укреплению на макросоциальном, микросоциальном и личност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дложенная и апробированная медико-психолого-педагогической модель  школы здоровья «Лукоморье» обеспечивает эффективную психопрофилактику в отношении пограничной психической патологии и гармоничного протекания пубертатного кри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еждисциплинарность проблем охраны психосоциального здоровья учащихся требует разработки и внедрения в программы подготовки специалистов медиков, педагогов, психологов, социологов расширенных разделов по особенностям проявления, профилактики и коррекции  различных форм психической дезадаптации детей и подрос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ПРЕДЕЛЕНИЕ ПОНЯТИЯ «ЗДОР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доровье - это состояние полного физического,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уховного и социального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лагополучия» -преамбула устава ВОЗ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Зеленый камень"/>
          <p:cNvPicPr/>
          <p:nvPr/>
        </p:nvPicPr>
        <p:blipFill>
          <a:blip r:embed="rId1"/>
          <a:stretch/>
        </p:blipFill>
        <p:spPr>
          <a:xfrm>
            <a:off x="0" y="0"/>
            <a:ext cx="19098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Зеленый камень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SCN0751"/>
          <p:cNvPicPr/>
          <p:nvPr/>
        </p:nvPicPr>
        <p:blipFill>
          <a:blip r:embed="rId3"/>
          <a:stretch/>
        </p:blipFill>
        <p:spPr>
          <a:xfrm>
            <a:off x="1909800" y="0"/>
            <a:ext cx="50356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324000" y="3716280"/>
            <a:ext cx="8424720" cy="29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Спешите делать доб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50840"/>
            <a:ext cx="10896480" cy="8102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-459000"/>
            <a:ext cx="83167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INEQUALITIES IN YOUNG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PEOPLE`S YEALTH</a:t>
            </a: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Health Behaviour in School-Aged Children Study: WHO Collaborative </a:t>
            </a: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Cross-National Study</a:t>
            </a:r>
            <a:br>
              <a:rPr sz="3600"/>
            </a:b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International report from the 2005/2006 survey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ЗДОРОВЬЕ И ПОВЕДЕНИЕ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ДЕТЕЙ ШКОЛЬНОГО ВОЗРАСТ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©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WHO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BSC_IR_ Cover"/>
          <p:cNvPicPr/>
          <p:nvPr/>
        </p:nvPicPr>
        <p:blipFill>
          <a:blip r:embed="rId2"/>
          <a:stretch/>
        </p:blipFill>
        <p:spPr>
          <a:xfrm>
            <a:off x="971640" y="4941720"/>
            <a:ext cx="1373040" cy="194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516720" y="638172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B74F-8F70-4F49-8027-EDDD0A2D5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1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котор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ых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запугивали по крайней мере 2 раза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месяцев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56360" y="215748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80AC-61E6-4D8B-8239-F9197ED3F3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5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которые употребляли гашиш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30-ти дней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284720" y="2997360"/>
            <a:ext cx="1079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95E0-634D-46BF-9D08-DDC0AE935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1-летних школьников, вовлечённых в драки по крайней мере 3 раза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 течение последних 12-ти месяцев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24360" y="208440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0516-652B-45BC-A7E9-537F10AA7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исло 15-летних школьников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у которых было сексуальное общение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279360" y="1555920"/>
          <a:ext cx="869940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555920"/>
                    <a:ext cx="86994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HBSC-logo"/>
          <p:cNvPicPr/>
          <p:nvPr/>
        </p:nvPicPr>
        <p:blipFill>
          <a:blip r:embed="rId3"/>
          <a:stretch/>
        </p:blipFill>
        <p:spPr>
          <a:xfrm>
            <a:off x="179280" y="5877000"/>
            <a:ext cx="571680" cy="752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372360" y="6237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ww.hb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27640" y="2133720"/>
            <a:ext cx="10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 2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507D-AEEE-4D76-B862-46FF2FD98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исло абортов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7 г. – 1,4 млн. (10% - у подрост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07 г. у 15-ти летних девочек состоялись 2.441 роды и 700 або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logo"/>
          <p:cNvPicPr/>
          <p:nvPr/>
        </p:nvPicPr>
        <p:blipFill>
          <a:blip r:embed="rId1"/>
          <a:stretch/>
        </p:blipFill>
        <p:spPr>
          <a:xfrm>
            <a:off x="3564000" y="3645000"/>
            <a:ext cx="1886040" cy="12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C41E-E9F7-4B60-883A-EA446AAB42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Сферы определяющие состояние психического благополучия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кро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кро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ичностная – психобиолог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7:28:20Z</dcterms:created>
  <dc:creator>Могильнер В.А.</dc:creator>
  <dc:description/>
  <dc:language>en-US</dc:language>
  <cp:lastModifiedBy>Чубаровский</cp:lastModifiedBy>
  <dcterms:modified xsi:type="dcterms:W3CDTF">2010-12-02T06:37:35Z</dcterms:modified>
  <cp:revision>83</cp:revision>
  <dc:subject/>
  <dc:title>Слайд 1</dc:title>
</cp:coreProperties>
</file>