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889-0E45-4364-81AC-0301020C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CF8-9D61-4758-AE2C-5E78E5EA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6051-1776-4B3C-8500-B2D95FB1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BAF5-AB94-4491-B824-4EF8B545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75924-35AE-447C-9C67-DC205E4F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A4CA1-23FB-4CCA-BAE8-411B9F68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18472-0D6A-4ECE-A72D-FB7A22AB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81763-7F66-47E9-A602-B97A590C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7A0F5-C207-4FA2-B2AB-87C28C4E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945A3-10F9-493A-B968-27EE6AA9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46432-E522-4C7C-AA45-44FE2BAA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C11-7EE2-4C14-905F-25A1C577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9C26D-0060-45F0-9122-F37A2590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55AF5-BD5E-43F9-A802-FDB0F7A3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4518C-5667-4E51-BDE3-7433E0FB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36473-2138-406A-805A-CA5D5B4E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B2799-CD0A-4F7C-AB53-C3E40E8B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474-41C9-4C4D-A281-80ED6357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3AE-3601-4463-BF8F-5CFB2B7D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F08-1B73-4849-8BDA-57CA9D24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2B7-7379-4479-845C-B5CD99BA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EA7A-72B6-4C3E-8498-EBC25ACA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A206-F7F3-4FBE-BDEE-041BBEDB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EFA-F7C8-4869-9BC0-AAD6310D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EFF6-C5C8-44A6-8561-42CF399A2C5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13E9-E1AE-433B-B507-10A9930D8CA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97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Unicode MS"/>
              </a:rPr>
              <a:t>Связь школы, содействующей укреплению здоровья,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 Unicode MS"/>
              </a:rPr>
              <a:t>с общественностью и муниципальной властью</a:t>
            </a:r>
            <a:br>
              <a:rPr sz="41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2920" y="4761000"/>
            <a:ext cx="752148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У гимназия №12 г.Долгопрудный Московской обла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м. директора, к.м.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апунова Наталья Олег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79280" y="1125360"/>
            <a:ext cx="8713080" cy="5695920"/>
            <a:chOff x="179280" y="1125360"/>
            <a:chExt cx="8713080" cy="5695920"/>
          </a:xfrm>
        </p:grpSpPr>
        <p:cxnSp>
          <p:nvCxnSpPr>
            <p:cNvPr id="119" name="_s96260"/>
            <p:cNvCxnSpPr>
              <a:stCxn id="120" idx="1"/>
              <a:endCxn id="121" idx="2"/>
            </p:cNvCxnSpPr>
            <p:nvPr/>
          </p:nvCxnSpPr>
          <p:spPr>
            <a:xfrm rot="10800000">
              <a:off x="4536360" y="3285360"/>
              <a:ext cx="1404000" cy="3189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96261"/>
            <p:cNvCxnSpPr>
              <a:stCxn id="123" idx="3"/>
              <a:endCxn id="121" idx="2"/>
            </p:cNvCxnSpPr>
            <p:nvPr/>
          </p:nvCxnSpPr>
          <p:spPr>
            <a:xfrm flipV="1">
              <a:off x="3315960" y="3285720"/>
              <a:ext cx="1221480" cy="3261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4" name="_s96262"/>
            <p:cNvCxnSpPr>
              <a:stCxn id="125" idx="1"/>
              <a:endCxn id="121" idx="2"/>
            </p:cNvCxnSpPr>
            <p:nvPr/>
          </p:nvCxnSpPr>
          <p:spPr>
            <a:xfrm rot="10800000">
              <a:off x="4536360" y="3285360"/>
              <a:ext cx="1043280" cy="2520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96264"/>
            <p:cNvCxnSpPr>
              <a:stCxn id="127" idx="1"/>
              <a:endCxn id="121" idx="2"/>
            </p:cNvCxnSpPr>
            <p:nvPr/>
          </p:nvCxnSpPr>
          <p:spPr>
            <a:xfrm rot="10800000">
              <a:off x="4536360" y="3285360"/>
              <a:ext cx="539280" cy="1810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96265"/>
            <p:cNvCxnSpPr>
              <a:stCxn id="129" idx="3"/>
              <a:endCxn id="121" idx="2"/>
            </p:cNvCxnSpPr>
            <p:nvPr/>
          </p:nvCxnSpPr>
          <p:spPr>
            <a:xfrm flipV="1">
              <a:off x="3850920" y="3285720"/>
              <a:ext cx="686520" cy="1938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96266"/>
            <p:cNvCxnSpPr>
              <a:stCxn id="131" idx="1"/>
              <a:endCxn id="121" idx="2"/>
            </p:cNvCxnSpPr>
            <p:nvPr/>
          </p:nvCxnSpPr>
          <p:spPr>
            <a:xfrm rot="10800000">
              <a:off x="4536360" y="3285360"/>
              <a:ext cx="755640" cy="77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96267"/>
            <p:cNvCxnSpPr>
              <a:stCxn id="133" idx="3"/>
              <a:endCxn id="121" idx="2"/>
            </p:cNvCxnSpPr>
            <p:nvPr/>
          </p:nvCxnSpPr>
          <p:spPr>
            <a:xfrm flipV="1">
              <a:off x="3929400" y="3285720"/>
              <a:ext cx="608400" cy="654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1" name="_s96268"/>
            <p:cNvSpPr/>
            <p:nvPr/>
          </p:nvSpPr>
          <p:spPr>
            <a:xfrm>
              <a:off x="179280" y="1125360"/>
              <a:ext cx="8713080" cy="21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ОБЩЕСТВЕННАЯ КОМИССИЯ ПО ЗДОРОВЬЮ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*Контроль за условиями обучения и воспитания учащихся;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*Планирование мероприятий по охране здоровья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* Распределение финансовых средств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_s96269"/>
            <p:cNvSpPr/>
            <p:nvPr/>
          </p:nvSpPr>
          <p:spPr>
            <a:xfrm>
              <a:off x="323640" y="3500280"/>
              <a:ext cx="3605400" cy="8776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РОДИТЕЛИ УЧАЩИХСЯ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(5 чел. от класса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_s96270"/>
            <p:cNvSpPr/>
            <p:nvPr/>
          </p:nvSpPr>
          <p:spPr>
            <a:xfrm>
              <a:off x="5292360" y="3500280"/>
              <a:ext cx="3456000" cy="11271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Представители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Ученического Совета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(1-2 ученика от 5-11 кл.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_s96271"/>
            <p:cNvSpPr/>
            <p:nvPr/>
          </p:nvSpPr>
          <p:spPr>
            <a:xfrm>
              <a:off x="611640" y="4724280"/>
              <a:ext cx="3239640" cy="9982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Зам. Директора по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учебно-воспитательной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работ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_s96272"/>
            <p:cNvSpPr/>
            <p:nvPr/>
          </p:nvSpPr>
          <p:spPr>
            <a:xfrm>
              <a:off x="5076360" y="4797360"/>
              <a:ext cx="3505320" cy="5965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Медицинский персонал</a:t>
              </a:r>
              <a:r>
                <a:rPr b="0" lang="ru-RU" sz="2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_s96274"/>
            <p:cNvSpPr/>
            <p:nvPr/>
          </p:nvSpPr>
          <p:spPr>
            <a:xfrm>
              <a:off x="5580000" y="5516640"/>
              <a:ext cx="2751480" cy="5760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Психолог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_s96275"/>
            <p:cNvSpPr/>
            <p:nvPr/>
          </p:nvSpPr>
          <p:spPr>
            <a:xfrm>
              <a:off x="1258200" y="6272280"/>
              <a:ext cx="2057760" cy="5490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Логопе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_s96276"/>
            <p:cNvSpPr/>
            <p:nvPr/>
          </p:nvSpPr>
          <p:spPr>
            <a:xfrm>
              <a:off x="5940360" y="6237360"/>
              <a:ext cx="2665800" cy="4759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Бухгалтер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187280" y="260280"/>
            <a:ext cx="661212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imes New Roman"/>
              </a:rPr>
              <a:t>АДМИНИСТРАЦИЯ ШКОЛ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84000" y="476280"/>
            <a:ext cx="431640" cy="64908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12000" y="476280"/>
            <a:ext cx="576360" cy="64908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518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хема взаимодействия школы, содействующей укреплению здоровья с административными структурами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гор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1268280"/>
            <a:ext cx="8966520" cy="5411520"/>
            <a:chOff x="0" y="1268280"/>
            <a:chExt cx="8966520" cy="5411520"/>
          </a:xfrm>
        </p:grpSpPr>
        <p:cxnSp>
          <p:nvCxnSpPr>
            <p:cNvPr id="139" name="_s87045"/>
            <p:cNvCxnSpPr>
              <a:stCxn id="140" idx="0"/>
              <a:endCxn id="141" idx="2"/>
            </p:cNvCxnSpPr>
            <p:nvPr/>
          </p:nvCxnSpPr>
          <p:spPr>
            <a:xfrm flipV="1" rot="16200000">
              <a:off x="4478400" y="3768480"/>
              <a:ext cx="258480" cy="70920"/>
            </a:xfrm>
            <a:prstGeom prst="bentConnector3">
              <a:avLst>
                <a:gd name="adj1" fmla="val 4421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87046"/>
            <p:cNvCxnSpPr>
              <a:stCxn id="141" idx="0"/>
              <a:endCxn id="143" idx="2"/>
            </p:cNvCxnSpPr>
            <p:nvPr/>
          </p:nvCxnSpPr>
          <p:spPr>
            <a:xfrm flipV="1">
              <a:off x="4572360" y="2491560"/>
              <a:ext cx="1800" cy="2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3" name="_s87047"/>
            <p:cNvSpPr/>
            <p:nvPr/>
          </p:nvSpPr>
          <p:spPr>
            <a:xfrm>
              <a:off x="2268000" y="1268280"/>
              <a:ext cx="4605840" cy="12240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АДМИНИСТРАЦИЯ ГОРОД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Принятие решений на уровне города</a:t>
              </a:r>
              <a:br>
                <a:rPr sz="1600"/>
              </a:b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Решение конкретных        Выработка местной </a:t>
              </a:r>
              <a:br>
                <a:rPr sz="1600"/>
              </a:b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            вопросов                    политики и общее </a:t>
              </a:r>
              <a:br>
                <a:rPr sz="1600"/>
              </a:b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Финансовая поддержка         управление городом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87048"/>
            <p:cNvSpPr/>
            <p:nvPr/>
          </p:nvSpPr>
          <p:spPr>
            <a:xfrm>
              <a:off x="2340360" y="2707920"/>
              <a:ext cx="4462920" cy="96696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ПРОЕКТ «ЗДОРОВЫЕ ГОРОДА»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Координирующая и посредническая роль;</a:t>
              </a:r>
              <a:br>
                <a:rPr sz="1600"/>
              </a:b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 пропаганда идей проект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_s87049"/>
            <p:cNvSpPr/>
            <p:nvPr/>
          </p:nvSpPr>
          <p:spPr>
            <a:xfrm>
              <a:off x="1908360" y="3933360"/>
              <a:ext cx="5469120" cy="7484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ШКОЛА, СОДЕЙСТВУЮЩАЯ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УКРЕПЛЕНИЮ ЗДОРОВЬ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87640" y="4941360"/>
              <a:ext cx="2378880" cy="7318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Другие управления и ведомства администрации (ЖКХ, культура и др.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724280"/>
              <a:ext cx="2629440" cy="195552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МУЗ Центральная Городская Больниц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Центр медицинской профилактики (медицинское обследование  и наблюдение, кадровое обеспечение, обучение персонала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87640" y="5660640"/>
              <a:ext cx="2377440" cy="1006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Управление социальной защиты и труд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(оказание адресной помощи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2000" y="5949360"/>
              <a:ext cx="2808000" cy="7300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СМ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(телевидение, газета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09080" y="5013000"/>
              <a:ext cx="2377440" cy="5763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ОБЩЕСТВЕННЫЕ ОРГАНИЗАЦИ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45" idx="0"/>
              <a:endCxn id="140" idx="1"/>
            </p:cNvCxnSpPr>
            <p:nvPr/>
          </p:nvCxnSpPr>
          <p:spPr>
            <a:xfrm flipV="1">
              <a:off x="1314360" y="4307400"/>
              <a:ext cx="594360" cy="4168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0" name=""/>
            <p:cNvCxnSpPr>
              <a:stCxn id="144" idx="0"/>
              <a:endCxn id="140" idx="3"/>
            </p:cNvCxnSpPr>
            <p:nvPr/>
          </p:nvCxnSpPr>
          <p:spPr>
            <a:xfrm flipH="1" flipV="1">
              <a:off x="7377120" y="4307400"/>
              <a:ext cx="399240" cy="634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1" name=""/>
            <p:cNvCxnSpPr>
              <a:stCxn id="148" idx="0"/>
              <a:endCxn id="140" idx="2"/>
            </p:cNvCxnSpPr>
            <p:nvPr/>
          </p:nvCxnSpPr>
          <p:spPr>
            <a:xfrm flipH="1" flipV="1">
              <a:off x="4642200" y="4681800"/>
              <a:ext cx="255240" cy="3312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2" name=""/>
            <p:cNvCxnSpPr>
              <a:stCxn id="153" idx="2"/>
              <a:endCxn id="140" idx="1"/>
            </p:cNvCxnSpPr>
            <p:nvPr/>
          </p:nvCxnSpPr>
          <p:spPr>
            <a:xfrm>
              <a:off x="1098360" y="3068280"/>
              <a:ext cx="810360" cy="12398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4" name=""/>
            <p:cNvCxnSpPr>
              <a:stCxn id="155" idx="2"/>
              <a:endCxn id="140" idx="3"/>
            </p:cNvCxnSpPr>
            <p:nvPr/>
          </p:nvCxnSpPr>
          <p:spPr>
            <a:xfrm flipH="1">
              <a:off x="7377120" y="3309120"/>
              <a:ext cx="662040" cy="9990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53" name=""/>
          <p:cNvSpPr/>
          <p:nvPr/>
        </p:nvSpPr>
        <p:spPr>
          <a:xfrm>
            <a:off x="0" y="1916280"/>
            <a:ext cx="2195640" cy="1152360"/>
          </a:xfrm>
          <a:prstGeom prst="rect">
            <a:avLst/>
          </a:prstGeom>
          <a:solidFill>
            <a:srgbClr val="66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Управление Образовани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(методическая помощь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финансовая поддержка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кадровое обеспечение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73640" y="2109960"/>
            <a:ext cx="1930320" cy="1191240"/>
          </a:xfrm>
          <a:prstGeom prst="rect">
            <a:avLst/>
          </a:prstGeom>
          <a:solidFill>
            <a:srgbClr val="6699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итет по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лодёжной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ике, спорту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туризм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00720" y="4724280"/>
            <a:ext cx="0" cy="122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472428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PavlyuchkovaMS\Рабочий стол\обои 25.04\обои дети, люди\1256592532.jpg"/>
          <p:cNvPicPr/>
          <p:nvPr/>
        </p:nvPicPr>
        <p:blipFill>
          <a:blip r:embed="rId2"/>
          <a:stretch/>
        </p:blipFill>
        <p:spPr>
          <a:xfrm>
            <a:off x="1042920" y="1844640"/>
            <a:ext cx="6815160" cy="4365720"/>
          </a:xfrm>
          <a:prstGeom prst="rect">
            <a:avLst/>
          </a:prstGeom>
          <a:ln w="0">
            <a:noFill/>
          </a:ln>
        </p:spPr>
      </p:pic>
      <p:pic>
        <p:nvPicPr>
          <p:cNvPr id="159" name="Овал 1" descr=""/>
          <p:cNvPicPr/>
          <p:nvPr/>
        </p:nvPicPr>
        <p:blipFill>
          <a:blip r:embed="rId3"/>
          <a:stretch/>
        </p:blipFill>
        <p:spPr>
          <a:xfrm>
            <a:off x="30240" y="115920"/>
            <a:ext cx="45781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fa20"/>
                </a:solidFill>
                <a:latin typeface="Tahoma"/>
              </a:rPr>
              <a:t>Программа профилактики и охраны здоровья школьни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Актуальность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8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Национальная образовательная инициатива «Наша новая школа»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8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Реализация образовательных стандартов второго поколения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8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Ежегодное ухудшение состояния здоровья детей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07640" y="0"/>
            <a:ext cx="9036000" cy="6642000"/>
            <a:chOff x="107640" y="0"/>
            <a:chExt cx="9036000" cy="6642000"/>
          </a:xfrm>
        </p:grpSpPr>
        <p:cxnSp>
          <p:nvCxnSpPr>
            <p:cNvPr id="88" name="_s88068"/>
            <p:cNvCxnSpPr>
              <a:stCxn id="89" idx="1"/>
              <a:endCxn id="90" idx="2"/>
            </p:cNvCxnSpPr>
            <p:nvPr/>
          </p:nvCxnSpPr>
          <p:spPr>
            <a:xfrm rot="10800000">
              <a:off x="4608360" y="1556640"/>
              <a:ext cx="1259280" cy="4775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88069"/>
            <p:cNvCxnSpPr>
              <a:stCxn id="92" idx="3"/>
              <a:endCxn id="90" idx="2"/>
            </p:cNvCxnSpPr>
            <p:nvPr/>
          </p:nvCxnSpPr>
          <p:spPr>
            <a:xfrm flipV="1">
              <a:off x="3965760" y="1557000"/>
              <a:ext cx="643320" cy="4631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88070"/>
            <p:cNvCxnSpPr>
              <a:stCxn id="94" idx="1"/>
              <a:endCxn id="90" idx="2"/>
            </p:cNvCxnSpPr>
            <p:nvPr/>
          </p:nvCxnSpPr>
          <p:spPr>
            <a:xfrm rot="10800000">
              <a:off x="4608360" y="1556640"/>
              <a:ext cx="1187280" cy="3853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88071"/>
            <p:cNvCxnSpPr>
              <a:stCxn id="96" idx="3"/>
              <a:endCxn id="90" idx="2"/>
            </p:cNvCxnSpPr>
            <p:nvPr/>
          </p:nvCxnSpPr>
          <p:spPr>
            <a:xfrm flipV="1">
              <a:off x="4464000" y="1557000"/>
              <a:ext cx="144720" cy="3380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88072"/>
            <p:cNvCxnSpPr>
              <a:stCxn id="98" idx="1"/>
              <a:endCxn id="90" idx="2"/>
            </p:cNvCxnSpPr>
            <p:nvPr/>
          </p:nvCxnSpPr>
          <p:spPr>
            <a:xfrm rot="10800000">
              <a:off x="4608360" y="1556640"/>
              <a:ext cx="489600" cy="2567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9" name="_s88073"/>
            <p:cNvCxnSpPr>
              <a:stCxn id="100" idx="3"/>
              <a:endCxn id="90" idx="2"/>
            </p:cNvCxnSpPr>
            <p:nvPr/>
          </p:nvCxnSpPr>
          <p:spPr>
            <a:xfrm flipV="1">
              <a:off x="4140360" y="1557000"/>
              <a:ext cx="469440" cy="2156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1" name="_s88074"/>
            <p:cNvCxnSpPr>
              <a:stCxn id="102" idx="1"/>
              <a:endCxn id="90" idx="2"/>
            </p:cNvCxnSpPr>
            <p:nvPr/>
          </p:nvCxnSpPr>
          <p:spPr>
            <a:xfrm rot="10800000">
              <a:off x="4608360" y="1556640"/>
              <a:ext cx="394920" cy="88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" name="_s88075"/>
            <p:cNvCxnSpPr>
              <a:stCxn id="104" idx="3"/>
              <a:endCxn id="90" idx="2"/>
            </p:cNvCxnSpPr>
            <p:nvPr/>
          </p:nvCxnSpPr>
          <p:spPr>
            <a:xfrm flipV="1">
              <a:off x="3856680" y="1556640"/>
              <a:ext cx="753120" cy="835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0" name="_s88076"/>
            <p:cNvSpPr/>
            <p:nvPr/>
          </p:nvSpPr>
          <p:spPr>
            <a:xfrm>
              <a:off x="1188000" y="0"/>
              <a:ext cx="6840000" cy="15573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10199"/>
                  </a:solidFill>
                  <a:latin typeface="Times New Roman"/>
                </a:rPr>
                <a:t>Основные блоки программы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10199"/>
                  </a:solidFill>
                  <a:latin typeface="Times New Roman"/>
                </a:rPr>
                <a:t>профилактики и охраны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10199"/>
                  </a:solidFill>
                  <a:latin typeface="Times New Roman"/>
                </a:rPr>
                <a:t>здоровья школьников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_s88077"/>
            <p:cNvSpPr/>
            <p:nvPr/>
          </p:nvSpPr>
          <p:spPr>
            <a:xfrm>
              <a:off x="250920" y="1844640"/>
              <a:ext cx="3605400" cy="10936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Создание оптимальных 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санитарно-гигиенических 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условий обучения и воспитани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_s88078"/>
            <p:cNvSpPr/>
            <p:nvPr/>
          </p:nvSpPr>
          <p:spPr>
            <a:xfrm>
              <a:off x="5003280" y="1773000"/>
              <a:ext cx="4140360" cy="13428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Профилактика  возникновения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нарушения зрения и оздоровление 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учащихся с миопией, предмиопией 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и спазмом  аккомодаци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_s88079"/>
            <p:cNvSpPr/>
            <p:nvPr/>
          </p:nvSpPr>
          <p:spPr>
            <a:xfrm>
              <a:off x="323640" y="3141720"/>
              <a:ext cx="3816360" cy="11430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Профилактика утомления и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 нарушений нервно-психического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здоровья у учащихс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_s88080"/>
            <p:cNvSpPr/>
            <p:nvPr/>
          </p:nvSpPr>
          <p:spPr>
            <a:xfrm>
              <a:off x="5098320" y="3429000"/>
              <a:ext cx="4045320" cy="13888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Оптимизация двигательного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 режима и профилактика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возникновения нарушений опорно-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двигательного  аппарата</a:t>
              </a:r>
              <a:r>
                <a:rPr b="0" lang="ru-RU" sz="2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_s88081"/>
            <p:cNvSpPr/>
            <p:nvPr/>
          </p:nvSpPr>
          <p:spPr>
            <a:xfrm>
              <a:off x="107640" y="4365720"/>
              <a:ext cx="4356360" cy="11412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Образовательная работа с учащимися, 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направленная на формирование 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ценности  здоровья и ЗОЖ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_s88082"/>
            <p:cNvSpPr/>
            <p:nvPr/>
          </p:nvSpPr>
          <p:spPr>
            <a:xfrm>
              <a:off x="5796000" y="5013360"/>
              <a:ext cx="2750040" cy="7920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Организация 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рационального питани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_s88083"/>
            <p:cNvSpPr/>
            <p:nvPr/>
          </p:nvSpPr>
          <p:spPr>
            <a:xfrm>
              <a:off x="323640" y="5734080"/>
              <a:ext cx="3642120" cy="9079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Образовательная работа </a:t>
              </a:r>
              <a:br>
                <a:rPr sz="2000"/>
              </a:b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с педагогическим коллективо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_s88084"/>
            <p:cNvSpPr/>
            <p:nvPr/>
          </p:nvSpPr>
          <p:spPr>
            <a:xfrm>
              <a:off x="5867640" y="6021360"/>
              <a:ext cx="2664360" cy="62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10199"/>
                  </a:solidFill>
                  <a:latin typeface="Times New Roman"/>
                </a:rPr>
                <a:t>Работа с семьёй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ОПТИМИЗАЦИЯ ДВИГАТЕЛЬНОГО РЕЖИМА и ПРОФИЛАКТИКА ВОЗНИКНОВЕНИЯ НАРУШЕНИЙ ОПОРНО-ДВИГАТЕЛЬНОГО АППАР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 большие перемены по 20 минут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ведение дополнительных уроков, предполагающих двигательную активность:</a:t>
            </a:r>
            <a:br>
              <a:rPr sz="2000"/>
            </a:br>
            <a:r>
              <a:rPr b="0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1-4 классы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 урока – физкультуры, 2 урока – ЛФК, 1 урок – хореография;</a:t>
            </a:r>
            <a:br>
              <a:rPr sz="2000"/>
            </a:br>
            <a:r>
              <a:rPr b="0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5 класс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 урока – физкультура, 1 урок – ЛФК;</a:t>
            </a:r>
            <a:br>
              <a:rPr sz="2000"/>
            </a:br>
            <a:r>
              <a:rPr b="0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6-11 классы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3 урока – физкультуры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ртивная неделя (5 дней в середине февраля)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ыжи, санки, коньки, ориентирование, эстафеты, плавани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 раз в триместр Дни здоровья (игровые виды спорта)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ссаж (по показаниям врач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Tahoma"/>
              </a:rPr>
              <a:t>Профилактика утомления и нарушения нервно-психического здоровья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9900"/>
                </a:solidFill>
                <a:latin typeface="Tahoma"/>
              </a:rPr>
              <a:t>учащих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1197000"/>
          <a:ext cx="9109080" cy="5599080"/>
        </p:xfrm>
        <a:graphic>
          <a:graphicData uri="http://schemas.openxmlformats.org/drawingml/2006/table">
            <a:tbl>
              <a:tblPr/>
              <a:tblGrid>
                <a:gridCol w="2843280"/>
                <a:gridCol w="2948040"/>
                <a:gridCol w="3317760"/>
              </a:tblGrid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Цель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Используемое оборудова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антистрессово-релаксационн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снятие мышечного и психоэмоционального напряжения, достижение состояния душевного равновес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сухой бассейн, звёздный дождь, музыкальное сопровождение, генератор запах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развития тактильной чувствительности и кинестетических функци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развитие кинестетического канала восприятия, осязательных, обонятельных, двигательных функци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кресла-«груши», сухой бассейн, занавесь из фибро-оптических волокон, звёздный дождь, мягкий пол, генератор запах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1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общеукрепляющая профилактическа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создание положительного эмоционального фон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всё оборудование в различных сочетаниях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9280" y="6237360"/>
            <a:ext cx="7885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«АСИР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5640" y="179280"/>
            <a:ext cx="4516200" cy="616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Times New Roman"/>
              </a:rPr>
              <a:t>ОБРАЗОВАТЕЛЬНАЯ РАБО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Учащиеся школ нового вид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грамма «Здоровье» под ред. В.Н.Касаткина, Л.А.Щепляги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Медицинский персонал Детских пол-к город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икл тематического усовершенствования «Вопросы охраны здоровья детей и подростков» (144 ч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Педагогический коллекти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5-ти часовой курс обучения «Здоровье школьника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жегодный инструктаж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Родите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матические родительские собр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дивидуальные консультации по итогам медицинских осмотр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местное с ребёнком выполнение практических домашних заданий по программе «Здоровье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влечение к участию в Днях здоровья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ртивной неделе и т.д.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та общественной комиссии «Здоровь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Риск развития заболеваний среди младших школьни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Tahoma"/>
              </a:rPr>
              <a:t>Медико-биологические факторы</a:t>
            </a: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ru-RU" sz="3400" spc="-1" strike="noStrike">
                <a:solidFill>
                  <a:srgbClr val="ffff00"/>
                </a:solidFill>
                <a:latin typeface="Tahoma"/>
              </a:rPr>
              <a:t>62,5%</a:t>
            </a: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 в группе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повышенного риска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Tahoma"/>
              </a:rPr>
              <a:t>Факторы раннего детства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ru-RU" sz="3400" spc="-1" strike="noStrike">
                <a:solidFill>
                  <a:srgbClr val="ffff00"/>
                </a:solidFill>
                <a:latin typeface="Tahoma"/>
              </a:rPr>
              <a:t>78,1%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 в группе настороженности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Tahoma"/>
              </a:rPr>
              <a:t>Факторы образа жизни: </a:t>
            </a:r>
            <a:r>
              <a:rPr b="1" lang="ru-RU" sz="3400" spc="-1" strike="noStrike">
                <a:solidFill>
                  <a:srgbClr val="ffff00"/>
                </a:solidFill>
                <a:latin typeface="Tahoma"/>
              </a:rPr>
              <a:t>98,1%</a:t>
            </a:r>
            <a:r>
              <a:rPr b="1" i="1" lang="ru-RU" sz="3400" spc="-1" strike="noStrike">
                <a:solidFill>
                  <a:srgbClr val="ffffff"/>
                </a:solidFill>
                <a:latin typeface="Tahoma"/>
              </a:rPr>
              <a:t> в группе настороженност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аспространённость поведенческих факторов риска среди родителей младших школьников (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28720" y="1708200"/>
          <a:ext cx="68310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8720" y="1708200"/>
                    <a:ext cx="68310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2:24:07Z</dcterms:created>
  <dc:creator>Измайлов</dc:creator>
  <dc:description/>
  <dc:language>en-US</dc:language>
  <cp:lastModifiedBy>User</cp:lastModifiedBy>
  <dcterms:modified xsi:type="dcterms:W3CDTF">2010-12-01T22:00:46Z</dcterms:modified>
  <cp:revision>67</cp:revision>
  <dc:subject/>
  <dc:title>Гигиеническая оценка оздоровления учащихся школ нового вида как составной части проекта ВОЗ «Здоровые города»  (на примере г.Долгопрудного Московской области)</dc:title>
</cp:coreProperties>
</file>