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AC5-46EF-4132-B573-0BC856F5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F41-7303-499D-887E-756A837A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028-5A73-4C33-88B0-45AEB982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EE3-AA77-4E69-B25B-11C5C3CC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A33-5FF9-4174-B663-C826A59F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36F-268C-470E-BD2A-1FD5E716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9BB-D74B-4EAF-88FC-833B2BDA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3CE-9D65-4E16-8FCE-03EC391E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B73-D0CA-4403-A7FB-BCFC919B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6EC-13C2-4AFF-B9E6-921B7B43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496-CBF4-41CC-A914-6C37805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A9F-7285-4B16-8D86-DF801FB0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AE33-E71A-4D76-84BF-8E7B4BB2EF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80920" y="1027080"/>
            <a:ext cx="61549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Формирование культуры здоровья у обучающихся: проблемы и пути их реш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46852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85160" y="3811680"/>
            <a:ext cx="633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Фарис Фахразович Хари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член-корр. РАО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д.п.н., профессо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Руководитель Центра здоровьесберегаю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образовательных технолог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Федерального институ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Futuris"/>
              </a:rPr>
              <a:t>развития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0200" y="609120"/>
            <a:ext cx="59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.Вересаев о здоровье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01640" y="228096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С ним не страшны никакие испытания, его потерять – значит потерять всё; без него нет ни свободы, нет независимости; человек становится рабом окружающих людей и обстановки; оно высшее и необходимое благо,  а между тем удержать его так трудно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787320" y="3038400"/>
            <a:ext cx="805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Futuris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5800" y="6091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.В. Ломоносов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66560"/>
            <a:ext cx="81439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24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ачало сего полагаю самым главным делом: сохранением и размножением Российского народа, в чем состоит величество, могущество и богатство всего государства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80920" y="609120"/>
            <a:ext cx="624852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ослании Федеральному Собранию РФ президент страны Дмитрий Анатольевич Медведев отметил, чт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3195360"/>
            <a:ext cx="7345440" cy="26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"стратегический приоритет политики в сфере детства – это формирование и развитие ценностей здорового образа жизни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12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2300040"/>
            <a:ext cx="7772400" cy="38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24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формирующий подход рассматривает здоровье в целостности его физического, психического и духовного статуса, тем самым задает вектор сопровождения образовательного процесса в парадигме здоровья личности в це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57240" y="609120"/>
            <a:ext cx="570060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ь формирования культуры здоровья у обучающихся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676240"/>
            <a:ext cx="77724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24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и совершенствование личности, повышение качества образования и духовно- нравственного, физического, психологического здоров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03320" y="609120"/>
            <a:ext cx="565452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ундаментальной идеей формирования культуры здоровья являет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1624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смотрение данной проблемы в контексте общих задач образования и в частности повышения качества обучения и воспитания подрастающего поко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82360" y="457200"/>
            <a:ext cx="5837400" cy="17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цептуальные позиции формирования культуры здоровья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2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енаправленный характер учебно-воспитательного процесса по формированию культуры здоровья у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остность и системность процесса формирования культуры здоровья у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 здоровьеформирующей образовательной среды и использование ее педагогических возможн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теграция ценностей культуры здоровья в содержание образования и использование здоровьесберегаюших технолог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е двигательной активности и учет индивидуально-личностных возможностей обучаю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лечение всех участников образовательного процесса в разнообразные формы деятельности по сохранению и укреплению здоровь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44480" y="404280"/>
            <a:ext cx="5995800" cy="23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 образовательных учреждений по формированию культуры здоровья у обучаю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учение культуре здоровья обучающихся на всех уровнях образовательного процес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филактическая деятельность образовательных учрежд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доровьеформирующая деятельность образовательных учрежд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60680" y="669600"/>
            <a:ext cx="5897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 приоритеты здоровьеформирующего подхода в системе образования: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364840"/>
            <a:ext cx="8043840" cy="40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глубление и расширение знаний обучающихся о здоровь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учебной нагруз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циональная организация процесса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благоприятного психологического клима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ивизация воспитательного воздействия образования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статуса предмета физическ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развитие двигательной актив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8:09:42Z</dcterms:created>
  <dc:creator>Дмитрий</dc:creator>
  <dc:description/>
  <dc:language>en-US</dc:language>
  <cp:lastModifiedBy>User </cp:lastModifiedBy>
  <dcterms:modified xsi:type="dcterms:W3CDTF">2010-12-01T13:29:27Z</dcterms:modified>
  <cp:revision>77</cp:revision>
  <dc:subject/>
  <dc:title>Министерство образования и науки РФ </dc:title>
</cp:coreProperties>
</file>