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424-B174-4377-B92F-C35A2D96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064-9791-483F-B1B1-466BB87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8A0-FFF0-4CC6-A1F5-E04D0211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720-7BD2-4E1E-8409-128C478C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168-4B22-4293-A73D-6DD51F86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FA4-ABAC-4579-B41D-6F066C63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0C1-A9C7-41EB-9819-251AB0C9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C6D-6C8A-46D1-9EAE-A73863CD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BF2-64F8-423E-9344-B344456A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FE3-E96F-426A-99D3-8EA22F91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3A2-C435-4905-B39C-9ED80C9C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D4A-D00F-4A54-A27E-FB257E9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F88-FC77-4221-8AA9-C48820506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68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 РЕЗУЛЬТАТАХ ВСЕРОССИЙСКОГО КОНКУР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«ШКОЛЫ ЗДОРОВЬЯ В РОССИИ: СОДЕЙСТВОВАТЬ ЗДОРОВЬЮ – ПОВЫШАТЬ КАЧЕСТВО ЖИЗН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45608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ИНДЖИ НАТАЛИЯ НИКОЛАЕВ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КТОР МЕДИЦИНСКИХ НАУК, ПРОФЕСС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И ГИГИЕНЫ И ОХРАНЫ ЗДОРОВЬЯ ДЕТЕЙ И ПОДРОСТКОВ НЦЗД РАМ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Ступени развития школ здоров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2565360"/>
            <a:ext cx="122400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637000"/>
            <a:ext cx="1800000" cy="936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2637000"/>
            <a:ext cx="64764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2637000"/>
            <a:ext cx="216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1413000"/>
            <a:ext cx="2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1413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844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95912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341360"/>
            <a:ext cx="976320" cy="574920"/>
          </a:xfrm>
          <a:prstGeom prst="rightArrow">
            <a:avLst>
              <a:gd name="adj1" fmla="val 50000"/>
              <a:gd name="adj2" fmla="val 4245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61620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1413000"/>
            <a:ext cx="1655640" cy="485640"/>
          </a:xfrm>
          <a:prstGeom prst="rightArrow">
            <a:avLst>
              <a:gd name="adj1" fmla="val 50000"/>
              <a:gd name="adj2" fmla="val 852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27220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413000"/>
            <a:ext cx="1008000" cy="485640"/>
          </a:xfrm>
          <a:prstGeom prst="rightArrow">
            <a:avLst>
              <a:gd name="adj1" fmla="val 50000"/>
              <a:gd name="adj2" fmla="val 5189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rot="19354800">
            <a:off x="43200" y="4128840"/>
            <a:ext cx="244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ступень – Школа, пропагандирующая здоровь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 rot="19192200">
            <a:off x="1428840" y="4362120"/>
            <a:ext cx="291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ступень – Школа, содействующая укреплению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 rot="19212600">
            <a:off x="3360600" y="445248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ступень – Школа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4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41300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rot="19411800">
            <a:off x="5592960" y="4420800"/>
            <a:ext cx="28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ступень – Школа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ункты, требующие особого внимания при проведении ауд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4. ХАРАКТЕРИСТИКА ЗДОРОВЬЯ В ПЕРЕЧНЕ ПОКАЗАТЕЛЕЙ ЭФФЕКТИВНОСТИ РАБОТЫ ШКОЛЫ: ДИНАМИКА ЗА 2-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пространенности функциональных отклон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пространенности хронических заболе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по данным профилактических осмот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оказателей острой заболеваем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изического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изической подготовл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пределения на группы здоров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СРЕДА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1:57:33Z</dcterms:created>
  <dc:creator>Лапонов</dc:creator>
  <dc:description/>
  <dc:language>en-US</dc:language>
  <cp:lastModifiedBy>nc</cp:lastModifiedBy>
  <dcterms:modified xsi:type="dcterms:W3CDTF">2010-11-30T12:40:49Z</dcterms:modified>
  <cp:revision>17</cp:revision>
  <dc:subject/>
  <dc:title>Слайд 1</dc:title>
</cp:coreProperties>
</file>