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343-BB44-45E1-8B6D-C101469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61D-112E-40CD-8B55-EA9FE90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44D-61A6-4AA6-899F-7B89232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786-2C4A-4E4E-8D42-CD0A2D09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978-DFE1-4FDD-A6DC-73ADD8C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754-2D16-4710-A290-1C4F797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4BC-1058-4C3A-9F03-C486A61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443-F3FD-4A5A-8AA2-46D4F9D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587-FBEA-47A0-8390-F03A3CC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C1C-706F-41CE-9EB3-7E1894A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21D-DF8B-4141-AB0D-FC7B4A9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90A-8FD5-49F9-BD60-88C6EA6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A25-1D28-4768-B33A-DDA6323FA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oshumz.ru/archiv/qz.pd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roshumz.ru/archiv/qz.pd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rapoportik@rambler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НАУЧНЫЙ ЦЕНТР ЗДОРОВЬЯ ДЕТЕЙ РАМН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НИИ ГИГИЕНЫ И ОХРАНЫ ЗДОРОВЬЯ ДЕТЕЙ И ПОДРОСТКОВ</a:t>
            </a:r>
            <a:br>
              <a:rPr sz="2000"/>
            </a:br>
            <a:br>
              <a:rPr sz="2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д.м.н. профессор  Рапопорт Ирина Калм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16000" y="2349360"/>
            <a:ext cx="6624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Медицинское обеспечение в школах, содействующих укреплению здоровья, и оценка показателей здоровья учащихся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08464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Московский городской Дворец детского (юношеского) творчества на Воробьевых г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2 декабря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EMBNNI"/>
          <p:cNvPicPr/>
          <p:nvPr/>
        </p:nvPicPr>
        <p:blipFill>
          <a:blip r:embed="rId1"/>
          <a:stretch/>
        </p:blipFill>
        <p:spPr>
          <a:xfrm>
            <a:off x="7812000" y="5734080"/>
            <a:ext cx="115272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бязательную плановую медицинскую помощь в общеобразовательном учреждении осуществляет школьный врач и медицинская сестра (фельдшер) - медицинский персонал отделения организации медицинской помощи детям в образовательных учреждениях, т.е. сотрудники прикрепленной детской поликлиники (детского отделения амбулаторно-поликлинического учреждения общей сет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Школы здоровья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моделей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(собственных лицензий на медицинскую деятельность не имеют)</a:t>
            </a:r>
            <a:br>
              <a:rPr sz="28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Школы здоровья, при наличии соответствующих помещений и дополнительного финансирования (10-15%), могут заключать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договоры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с прикрепленными детскими поликлиниками (детскими отделениями амбулаторно-поликлинических учреждений общей сети) о дополнительных медицинских услуг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Например о систематическом квалифицированном проведени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ими работниками поликлиники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некоторых физиотерапевтических процедур, лечебной физкультуры и массажа непосредственно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Детская поликлиника (детское отделение) должна иметь лицензию на медицинскую деятельность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в образовательных учрежд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Третьей моделью Школы здоров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ожно считать такую модель, которая предназначена для школьников с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тяжелыми хроническими соматическими заболеваниями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; учащихся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длительно и часто болеющих; детей-инвалидов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с сохраненным интеллектом и психикой, прошедших медико-психолого-педагогическую комисс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такой Школе здоровья имеется специализированное структурное подразделение –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«Оздоровительный центр»,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основной задачей которого является реализация оздоровительных, а точнее лечебно-коррекционных програ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штате «Оздоровительного центра»,т.е.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в штате самой школы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работают медицинские работники с высшим и средним медицинским образова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«Оздоровительный центр» оснащен медицинским оборудованием, в основном из спектра оборудования восстановительной медици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дицинская деятельность в Школе здоровья при такой организационной модели может осуществляться только при наличии у самой школы соответствующей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лицензии на медицинскую деят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месте с тем, функционирование «Оздоровительного центра» Школы здоровья предполагает и активное участие в профилактической, диагностической и лечебно-коррекционной работе, проводимой в школе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ого персонала прикрепленного амбулаторно-поликлинического учреждения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особенно при проведении профилактических медицинских осмо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Лабораторно-инструментальное исследование и обследование учащихся врачами - узкими специалистами, сложные лечебные процедуры осуществляются в поликлинике и/или в специализированных лечебно-профилактических учрежден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реть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Таким образом, Школа здоровья, имеющая «Оздоровительный центр», не подменяет деятельность поликлиники, а приближает к учащимся некоторые медицинские услуги (в основном разнообразные физиотерапевтические процедуры, фитотерапию, щадящее питание), которые  должны проводиться больным детям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на протяжении всего учебного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Для работы «Оздоровительного центра» Школа здоровья третьей модели должна иметь соответствующие условия - финансирование, помещения, оснащение, кадровый потенциал, (школьный автобус для доставки детей-инвалид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НИИ гигиены  и охраны здоровья детей и подростков НЦЗД РАМН разработаны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ритерии и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система оценок медицинского обеспечения и показателей здоровья учащих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школ, содействующих укреплению здоров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Оценка проводится  по типу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самоаудита»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истема оценок представлена в 6 разделе «К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ритериев оценки деятельности школ, содействующих укреплению здоровья»,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зложенных в книге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.Р.Кучмы с соавт.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Школы здоровья в России», 2010г.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нига размещена на сайт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NIIGD.RU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в разделе «РОШУМЗ» (Российское общество школьной и университетской медицины и здоровь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Раздел 6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Критерии оценки</a:t>
            </a:r>
            <a:br>
              <a:rPr sz="28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МЕДИЦИНСКОГО ОБЕСПЕЧЕНИЯ и ПОКАЗАТЕЛЕЙ ЗДОРОВЬЯ УЧАЩИХСЯ ВС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Цель анализа показателей - динамическое слежение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за организацией медицинского обеспечения  и состоянием здоровья учащихся для принятия управленческих решений по совершенствованию проводимой работы(мониторин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В.Р.Кучмы с соавт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«Школы здоровья в России» приведены алгоритм, протокол и приложения, необходимые для получения и объективной оценки показ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БАЛЛЫ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инципы  выставления бал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 –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Не проведена оценка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соответствующего показателя состояния здоровья, (тенденция к ухудшению показателя при динамическом наблюден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 –Оценка показателей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оведена не полностью или не у всех учащихся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школы (не менее 80%); уровень показателя ниже  (хуже) требуемого параметра (норматива), (нет улучшения показателей в динамике наблюд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2 –Оценка показателей проведена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олностью  и у всех учащихся школы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; уровень показателя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соответствует требуемому параметру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(нормативу); (нет улучшения показателей в динамике наблюд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 –Оценка показателей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проведена полностью  и у всех учащихся школы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уровень показателя выше  (лучше) требуемого параметра (норматива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); отмечается отчетливая и стойкая тенденция улучшения показателя состояния здоро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99640" y="836640"/>
            <a:ext cx="74883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Для тех школ, которые впервые оценивают показатели состояния здоровья учащихся, баллы выставляются в зависимости от того, полностью или частично охвачены обследованием учащиеся школы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0, 1 и 2 балл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Те школы, которые проводят оценку состояния здоровья учащихся  в динамике за 2-3 (и более) года и выявили благоприятные показатели, имеют возможность по каждому пункту (6.4., 6.5, 6.6., 6.7, 6.8) выставить себе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 балла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4739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В настоящее время в России развивается сеть школ, содействующих укреплению здоровья обучающихся, которая насчитывает более 5 тысяч образовательных учре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4360" y="620640"/>
          <a:ext cx="7775280" cy="5472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. Наличие медицинского пункта (кабинета) в шко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2. Наличие  медицинского персонала, работающего в            школ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врач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рафик работы школьного врач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r" pos="38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 среднего медицинского персо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ffffff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рафик работы среднего медицинского персо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3. Оборудование, оснащение медицинского кабин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4. Численность обучающихся,  у которых в процессе учебы зарегистрированы благоприятные изменения физического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книге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иложение 20. В приложен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струкция по измерению физическо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Таблицы (нормативы) Границы нормальных вариантов массы тела при разном росте детей от 6 до 18 лет включи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отокол оценки физ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еобходимо проводить оценку физического развития 2 раза в год – в мае и сентяб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5. Численность обучающихся,  у которых отмечается благоприятная динамика состояния здоровья  (по результатам обработки данных анкетного опроса для выявления жалоб на нарушения здоровь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Анкету заполняют родители каждого учащегося начальных классов. Учащиеся средних и старших классов заполняют индивидуальную анкету самостоя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ниге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&lt;Школы здоровья в России (концепция, планирование и развитие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иложение 2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В приложен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нструкция по заполнению анк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Анк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ротокол оценки динамики количества жалоб (в балл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ротокол динамики отклонений в состоянии здоровья (благоприятная динамика – уменьшение количества жалоб) , неблагоприятная динамика  – увеличение количества жалоб, стабильные показатели –незначительные колебания количества жалоб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6. Изменения количества случаев заболеваний, перенесенных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иложение 2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 приложен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И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токол регистрации пропусков занятий по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токол расчета относительных показателей (случаев, дней пропусков, часто болеющих детей, «индекса здоровья»  на 100 учащих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Средние показатели заболеваемости учащихся школ Москвы – условные ориентировочные «норматив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7. Численность обучающихся, у которых в процессе учебы регистрируются благоприятные изменения  физической подготов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Приложение 23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В приложени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струкция по оценке физической подгото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еречень тестовых упраж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ценочная шк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отокол оценки физической подготовленности в бал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ормативные таблицы по тестам в зависимости от пола и возраста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6.8. Численность обучающихся, у которых на основании данных профилактических медицинских осмотров регистрируются благоприятные изменения в показателях комплексной оценки состояния здоровья (ГРУППЫ ЗДОРОВЬ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В книге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&lt;Школы здоровья в России (концепция, планирование и развитие)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Приложение 24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 В приложени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Инстру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Протокол распределения учащихся на группы здоровья (в 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549360"/>
          <a:ext cx="8136000" cy="59749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9. Участие администрации и педагогического коллектива в организации профилактических медицинских осмотров учащих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0. Участие администрации и педагогического коллектива в организации иммунопрофилактической  (прививочной) работ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в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школ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6.11. Учет случаев травм детей, произошедших при нарушении правил безопасности жизнедеятельности (в школе и/или вне школы), в том числ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оказании медицинской помощи силами медицинского персонала школы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 algn="just"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 оказании помощи силами бригады «скорой помощи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яснения в разделе «Алгоритм для оценки деятельности ШКОЛ, СОДЕЙСТВУЮЩИХ УКРЕПЛЕНИЮ ЗДОРОВЬЯ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68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НИИ гигиены и охраны здоровья детей и подростков  НЦЗД РАМН создана лаборатория Научно-методических основ школ здоров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се замечания и предложения по совершенствованию критериев и показателей оценки деятельности Школ, содействующих укреплению здоровья, просим направлять по электронному адресу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apoportik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@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ambler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920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Спасибо за внимание.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доктор медицинских наук, профессор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попорт Ирина Калмановна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3716280"/>
            <a:ext cx="70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ИИ гигиены и охраны здоровья детей и подрос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ЦЗД РАМ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05064 Москва, Малый Казенный переу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.5 стр.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Times New Roman"/>
                <a:hlinkClick r:id="rId1"/>
              </a:rPr>
              <a:t>rapoportik@rambler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Тел. (495) 917-48-31, (495) 916-06-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99640" y="765000"/>
            <a:ext cx="76899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Школы, содействующие укреплению здоровья, созданы с целью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сохранения и укрепления здоровья учащихся путем создания безопасной и благоприятной для здоровья физической, психологической и социальной среды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повышения двигательной активности учащихся и улучшения качества питания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формирования устойчивых стереотипов здорового образа жизни у обучающихся, их родителей и педагог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рациональной организации профилактических и оздоровительных мероприят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00000" y="836640"/>
            <a:ext cx="73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В процессе совершенствования здоровьесберегающей и оздоровительной деятельности школы, содействующие укреплению здоровья, могут проходить определенные ступени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Школы здоровья – это наиболее высокая ступень в развитии школ, содействующих укреплению здоровья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0800000">
            <a:off x="1763280" y="2636640"/>
            <a:ext cx="5759640" cy="3673440"/>
          </a:xfrm>
          <a:custGeom>
            <a:avLst/>
            <a:gdLst>
              <a:gd name="textAreaLeft" fmla="*/ 1266480 w 5759640"/>
              <a:gd name="textAreaRight" fmla="*/ 4493160 w 5759640"/>
              <a:gd name="textAreaTop" fmla="*/ 807840 h 3673440"/>
              <a:gd name="textAreaBottom" fmla="*/ 286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6308640"/>
            <a:ext cx="70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907920"/>
            <a:ext cx="0" cy="5400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5640" y="5157720"/>
            <a:ext cx="70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149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445000"/>
            <a:ext cx="4825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пропагандирующие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4365720"/>
            <a:ext cx="403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содействующие укреплению здоровья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429000"/>
            <a:ext cx="4032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, содействующие укреплению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I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I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63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I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780720" y="1268280"/>
            <a:ext cx="576360" cy="13687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268280"/>
            <a:ext cx="576000" cy="1368720"/>
          </a:xfrm>
          <a:prstGeom prst="rtTriangl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93164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4360" y="1268280"/>
            <a:ext cx="576360" cy="136872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260280"/>
            <a:ext cx="2303640" cy="1008000"/>
          </a:xfrm>
          <a:prstGeom prst="wedgeRectCallout">
            <a:avLst>
              <a:gd name="adj1" fmla="val -70055"/>
              <a:gd name="adj2" fmla="val 1005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260280"/>
            <a:ext cx="1871640" cy="432000"/>
          </a:xfrm>
          <a:prstGeom prst="wedgeRectCallout">
            <a:avLst>
              <a:gd name="adj1" fmla="val 43467"/>
              <a:gd name="adj2" fmla="val 266546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8720" y="2602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Центр СС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49520" y="333360"/>
            <a:ext cx="23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  <a:ea typeface="Arial"/>
              </a:rPr>
              <a:t>Оздорови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6560" y="3429000"/>
            <a:ext cx="712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997360"/>
            <a:ext cx="381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Школ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  <a:ea typeface="Arial"/>
              </a:rPr>
              <a:t> сту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062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9079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ал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Перв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Школа, в котор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создана или создается единая система здоровьесбере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внедряются инновационные образовательные программы и технологии, интегрирующие образовательные и оздоровительно-профилактические компоненты, направленные на сохранение и повышение работоспособности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проводится работа по формированию культуры здоровья учащихся на всех этапах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дицинскую помощь детям должны осуществлять школьный врач и школьная медицинская сестра –сотрудники отделения организации медицинской помощи в ОУ, т.е. сотрудники детского амбулаторно-поликлиническ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В составе  такой школы работает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«Центр содействия сохранению здоровья обучающихся»,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отвечающий требованиям  приказа Министерства образования РФ от 15 мая 2000г. № 1418 «Об утверждении Примерного Положения О Центре содействия укреплению здоровья обучающихся, воспитанников образовательного учреждения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Штат «Центр содействия сохранению здоровья обучающихся» (ССЗО)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не предполагает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наличие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медицинских работников (сотрудников центра) и лицензии на медицинскую деятель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мея дополнительное финансирование (10-15%), Школа здоровья обеспечивает деятельность Центра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одействия сохранению здоровья обучающихся»,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(ССЗО), в т.ч. и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оздоровительную работу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, предполагающую систему эффективных закаливающих процедур, комплекс психогигиенических мероприятий, рациональную организацию двигательной активности и питания учащихся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торая модель  Школы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Основными целями Центра (ССЗО)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- содействие администрации и педагогическому коллективу образовательного учреждения в создании условий, гарантирующих охрану и укрепление физического, психического и социального здоровья обучающих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- содействие всем участникам образовательного процесса в приобретении знаний, умений, навыков, необходимых для формирования устойчивой мотивации на здоровье и здоровый образ жиз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1:52:14Z</dcterms:created>
  <dc:creator>Дмитрий</dc:creator>
  <dc:description/>
  <dc:language>en-US</dc:language>
  <cp:lastModifiedBy>Ира</cp:lastModifiedBy>
  <dcterms:modified xsi:type="dcterms:W3CDTF">2010-12-01T21:37:45Z</dcterms:modified>
  <cp:revision>334</cp:revision>
  <dc:subject/>
  <dc:title>Слайд 1</dc:title>
</cp:coreProperties>
</file>