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7A4A-3B06-4225-97EB-95D2D14B4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7EB3-5A95-4D38-A47E-741C3CB3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994D-249C-438B-8D86-ABB15DFC2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2B7B-71B5-425D-8F11-DF7099A9B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65CC-D843-40B2-9F4D-10C33F333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7EC8-449B-4DA4-A434-2B3E293C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F4549-E1EE-43DD-997F-085D9DE7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A9A8-256B-4503-A701-DFFCFBE9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436C4-CB6B-4D43-A7C0-BADA00F2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3902-F69C-4814-9F24-2B38FB86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87472-4947-481B-922B-0B6BB00A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F62D-2510-4CC2-A759-24DBD19D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149E-9AB3-4492-BAE5-24F24095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B772B-2E8C-4017-9B01-13C83D88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BD5D-C90A-45A1-8DE6-6285F775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9C096-1240-42BC-85B3-02F699C46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93E27-953A-45E3-9D0D-395F2C9F5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4AB9-0241-467F-821C-2B98A07C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63F9-FE5F-4FDA-BFCF-DC7EDD0F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D82B-8F3B-4330-A1EE-14F681D8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2090-4B6E-4789-9DBC-729D2B59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9B7D-BAC6-4A53-9FB5-9C3FC043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D43C-3217-40C6-A091-3CCF8B5B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E19A-7518-41BE-9AA8-7FFA11D9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5B1D-1203-4418-B122-01023A660FB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2E2E-8598-4758-BACA-87A89E157A1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.wmf"/><Relationship Id="rId15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9898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Сформированность здорового образа жизни учащихся как основа охраны и укрепления здоровья  детей и подростков в образовательных учреждениях</a:t>
            </a: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826560" y="4292640"/>
            <a:ext cx="83170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Звездина И.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ИИ гигиены и охраны здоровья детей и подростков НЦЗД РАМН,  Моск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Распространенность регулярного курения</a:t>
            </a:r>
            <a:br>
              <a:rPr sz="2800"/>
            </a:b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 среди школьников 13-15 лет</a:t>
            </a:r>
            <a:br>
              <a:rPr sz="2800"/>
            </a:b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Российская Федерация, 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GYT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0" y="1989000"/>
          <a:ext cx="9183600" cy="506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9000"/>
                    <a:ext cx="9183600" cy="50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1405080" y="1557360"/>
            <a:ext cx="15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 средне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 регион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4160" y="170028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егио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2720" y="220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Распространенность «раннего» курения</a:t>
            </a:r>
            <a:br>
              <a:rPr sz="2800"/>
            </a:b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(в возрасте до 10 лет)</a:t>
            </a:r>
            <a:br>
              <a:rPr sz="2800"/>
            </a:b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Российская Федерация, 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GYT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1989000"/>
          <a:ext cx="9183600" cy="506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9000"/>
                    <a:ext cx="9183600" cy="50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405080" y="1557360"/>
            <a:ext cx="15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 средне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 регион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14160" y="170028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егио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2720" y="220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Распространенность курения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среди младших школьников и их родителей (%)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68" name="Object 2"/>
          <p:cNvGraphicFramePr/>
          <p:nvPr/>
        </p:nvGraphicFramePr>
        <p:xfrm>
          <a:off x="0" y="914400"/>
          <a:ext cx="586728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586728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Text Box 4"/>
          <p:cNvSpPr/>
          <p:nvPr/>
        </p:nvSpPr>
        <p:spPr>
          <a:xfrm>
            <a:off x="534240" y="2495520"/>
            <a:ext cx="159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школьн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3052800" y="121932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одите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79560" y="1143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5943600" y="1371600"/>
            <a:ext cx="297180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курение родите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дефицит массы те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функциональные отклонения пищеварительной систе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болезни нервной систе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нарушения адаптац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(р≤0,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Стрелка вниз 7"/>
          <p:cNvSpPr/>
          <p:nvPr/>
        </p:nvSpPr>
        <p:spPr>
          <a:xfrm>
            <a:off x="7135920" y="1828800"/>
            <a:ext cx="331560" cy="685800"/>
          </a:xfrm>
          <a:prstGeom prst="downArrow">
            <a:avLst>
              <a:gd name="adj1" fmla="val 50000"/>
              <a:gd name="adj2" fmla="val 50101"/>
            </a:avLst>
          </a:prstGeom>
          <a:solidFill>
            <a:srgbClr val="66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Связь курения и отдельных групп функциональных нарушений, хронических болезней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в подростковом возрасте</a:t>
            </a:r>
            <a:endParaRPr b="1" lang="en-US" sz="2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543480" y="1197000"/>
            <a:ext cx="2514600" cy="719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ьные нарушения С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72080" y="2739960"/>
            <a:ext cx="2057400" cy="1143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57600" y="5140440"/>
            <a:ext cx="2286000" cy="72684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ллергические болез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629400" y="1596960"/>
            <a:ext cx="2286000" cy="68580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и органов дых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29400" y="3997440"/>
            <a:ext cx="2286000" cy="68580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олезн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Р-орга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2743200"/>
            <a:ext cx="2286000" cy="987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 менструального цик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1711440"/>
            <a:ext cx="251460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ьные нарушения Ж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2590920"/>
            <a:ext cx="2514600" cy="60624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еские болезни Ж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3429000"/>
            <a:ext cx="2514600" cy="68256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вно-психические болез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4454640"/>
            <a:ext cx="2514600" cy="80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докр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нн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-обменные болез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686480" y="18255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800600" y="18255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915080" y="18255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715000" y="228240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600880" y="2168640"/>
            <a:ext cx="102852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829480" y="3197160"/>
            <a:ext cx="79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29480" y="3311640"/>
            <a:ext cx="79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829480" y="3425760"/>
            <a:ext cx="79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00880" y="3654360"/>
            <a:ext cx="1028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915080" y="3882960"/>
            <a:ext cx="0" cy="125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00600" y="3882960"/>
            <a:ext cx="0" cy="125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3200040" y="1940040"/>
            <a:ext cx="11430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3200400" y="2053800"/>
            <a:ext cx="1028880" cy="80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3200400" y="216828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3200040" y="285408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3200040" y="27396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200400" y="3425760"/>
            <a:ext cx="571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3200400" y="3540240"/>
            <a:ext cx="571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3200040" y="3654360"/>
            <a:ext cx="800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200400" y="3654360"/>
            <a:ext cx="914400" cy="102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200400" y="3768840"/>
            <a:ext cx="914400" cy="102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81680" y="5105520"/>
            <a:ext cx="2057400" cy="148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 &lt; 0,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 &lt; 0,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 &lt; 0,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934320" y="5257800"/>
            <a:ext cx="571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010280" y="571500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010280" y="586728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010280" y="632448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010280" y="647712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010280" y="617220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-11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-11124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30085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Распространённость употребления алкоголя среди старшеклассников 1995-2005 гг.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0" y="1916280"/>
          <a:ext cx="4006800" cy="39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16280"/>
                    <a:ext cx="4006800" cy="39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4767120" y="1916280"/>
          <a:ext cx="437688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67120" y="1916280"/>
                    <a:ext cx="437688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4898880" y="216000"/>
            <a:ext cx="3281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Употребление алкоголя 2-3 раза в месяц и чащ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Связь употребления алкоголя и отдельных групп функциональных нарушений, хронических болезней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у подростков</a:t>
            </a:r>
            <a:endParaRPr b="1" lang="en-US" sz="2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1135080"/>
            <a:ext cx="251460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ьные нарушения С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971800" y="2735280"/>
            <a:ext cx="3200400" cy="14810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ЛЕНИЕ АЛКОГОЛ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29000" y="5135400"/>
            <a:ext cx="2286000" cy="80820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лергические болез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5280" y="1935000"/>
            <a:ext cx="2514600" cy="68580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и органов дых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515280" y="4221000"/>
            <a:ext cx="2514600" cy="68580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Р-орга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515280" y="2971800"/>
            <a:ext cx="2514600" cy="911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 менструального цик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4480" y="2163600"/>
            <a:ext cx="251460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ьные нарушения Ж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4480" y="3306600"/>
            <a:ext cx="2514600" cy="5716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вно-психические болез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457880" y="1820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572000" y="1820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4686480" y="1820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705720" y="5105520"/>
            <a:ext cx="2057400" cy="148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 &lt; 0,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 &lt; 0,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 &lt; 0,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934320" y="5257800"/>
            <a:ext cx="571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934320" y="5715000"/>
            <a:ext cx="571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934320" y="5867280"/>
            <a:ext cx="571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934320" y="6324480"/>
            <a:ext cx="571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34320" y="6477120"/>
            <a:ext cx="571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34320" y="6172200"/>
            <a:ext cx="571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4480" y="4678200"/>
            <a:ext cx="251460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докринно-обменные наруш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2629080" y="342108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629080" y="353520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2400120" y="376380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2628720" y="3878280"/>
            <a:ext cx="57132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628720" y="399240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57880" y="4221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0" y="4221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72280" y="4106880"/>
            <a:ext cx="114300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600880" y="410688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715000" y="3992400"/>
            <a:ext cx="800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72200" y="330660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72200" y="34210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5715000" y="2392200"/>
            <a:ext cx="80028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829480" y="26208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2629080" y="27352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2628720" y="2506320"/>
            <a:ext cx="57132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2628720" y="22777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-11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-11124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РАСПРОСТРАНЕННОСТЬ ПОВЕДЕНЧЕСКИХ ФАКТОРОВ РИСКА СРЕДИ УЧАЩИХСЯ МОСКОВСКИХ ШКОЛ</a:t>
            </a:r>
            <a:br>
              <a:rPr sz="2000"/>
            </a:b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ЗА ПЕРИОД ОБУЧЕНИЯ (1-6 КЛАССЫ), 2005-2009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042920" y="2060640"/>
          <a:ext cx="3695760" cy="190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060640"/>
                    <a:ext cx="3695760" cy="19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5940360" y="1557360"/>
          <a:ext cx="2948040" cy="19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0360" y="1557360"/>
                    <a:ext cx="29480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5940360" y="3213000"/>
          <a:ext cx="2948040" cy="198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0360" y="3213000"/>
                    <a:ext cx="29480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1258920" y="3213000"/>
          <a:ext cx="2948040" cy="198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58920" y="3213000"/>
                    <a:ext cx="29480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1692360" y="1557360"/>
          <a:ext cx="2933640" cy="1974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92360" y="1557360"/>
                    <a:ext cx="2933640" cy="19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2668320" y="2275560"/>
            <a:ext cx="62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cff"/>
                </a:solidFill>
                <a:latin typeface="Tahoma"/>
              </a:rPr>
              <a:t>51,7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49760" y="2275560"/>
            <a:ext cx="62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cff"/>
                </a:solidFill>
                <a:latin typeface="Tahoma"/>
              </a:rPr>
              <a:t>74,2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074480" y="2275920"/>
            <a:ext cx="165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ипокинез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51640" y="3933000"/>
            <a:ext cx="23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обовали кури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627280" y="36871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ahoma"/>
              </a:rPr>
              <a:t>3,5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49760" y="3859920"/>
            <a:ext cx="62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cff"/>
                </a:solidFill>
                <a:latin typeface="Tahoma"/>
              </a:rPr>
              <a:t>23,5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1258920" y="4876920"/>
          <a:ext cx="2948040" cy="1981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58920" y="4876920"/>
                    <a:ext cx="29480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5940360" y="4876920"/>
          <a:ext cx="2948040" cy="1981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940360" y="4876920"/>
                    <a:ext cx="29480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2597040" y="5299920"/>
            <a:ext cx="62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cff"/>
                </a:solidFill>
                <a:latin typeface="Tahoma"/>
              </a:rPr>
              <a:t>12,4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349760" y="5515920"/>
            <a:ext cx="62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cff"/>
                </a:solidFill>
                <a:latin typeface="Tahoma"/>
              </a:rPr>
              <a:t>25,1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419640" y="522864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потребляют пиво, вин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о 1 раза в меся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183400" y="321228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-2 класс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183400" y="486828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-2 класс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183400" y="65826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-2 класс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864840" y="321228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-6 класс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936480" y="486828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-6 класс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64840" y="65826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-6 класс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995640" y="6165720"/>
            <a:ext cx="971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1" lang="ru-RU" sz="800" spc="-1" strike="noStrike">
                <a:solidFill>
                  <a:srgbClr val="ffffff"/>
                </a:solidFill>
                <a:latin typeface="Tahoma"/>
              </a:rPr>
              <a:t>≤0,01 – достоверность различий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Tahoma"/>
              </a:rPr>
              <a:t>между показателями в группах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Tahoma"/>
              </a:rPr>
              <a:t>младших школьников (1-2 кл.)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Tahoma"/>
              </a:rPr>
              <a:t>и учащихся </a:t>
            </a: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ru-RU" sz="800" spc="-1" strike="noStrike">
                <a:solidFill>
                  <a:srgbClr val="ffffff"/>
                </a:solidFill>
                <a:latin typeface="Tahoma"/>
              </a:rPr>
              <a:t>-ой ступени (5-6 кл.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9560" y="6165720"/>
            <a:ext cx="26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451640" y="2133720"/>
            <a:ext cx="28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459920" y="3716280"/>
            <a:ext cx="26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451640" y="537372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348000" y="2852640"/>
            <a:ext cx="32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348000" y="4508640"/>
            <a:ext cx="32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348000" y="6093000"/>
            <a:ext cx="32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ффективное образование в области здорового образа жизни должно привести к переоценке жизненных ценностей, появлению необходимых навыков,  изменению поведения и стиля жизни школьников и, в результате, снижению риска формирования заболевани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ИНФОРМИРОВАННОСТЬ В ОТНОШЕНИИ ФАКТОРОВ РИСКА </a:t>
            </a:r>
            <a:br>
              <a:rPr sz="1800"/>
            </a:b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СРЕДИ МАЛЬЧИКОВ И ДЕВОЧЕК 8-11 КЛАССОВ МОСКОВСКИХ ШКОЛ (2010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2700360" y="1773360"/>
          <a:ext cx="5952960" cy="42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773360"/>
                    <a:ext cx="5952960" cy="42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395280" y="4437000"/>
          <a:ext cx="2732040" cy="180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4437000"/>
                    <a:ext cx="273204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"/>
          <p:cNvSpPr/>
          <p:nvPr/>
        </p:nvSpPr>
        <p:spPr>
          <a:xfrm>
            <a:off x="3885480" y="6092640"/>
            <a:ext cx="128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8-9 класс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204960" y="6092640"/>
            <a:ext cx="152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0-11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класс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395280" y="1916280"/>
          <a:ext cx="2732040" cy="1800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5280" y="1916280"/>
                    <a:ext cx="273204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1116000" y="349956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8-9 класс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71720" y="594936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0-11 класс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60320" y="2635920"/>
            <a:ext cx="62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ff"/>
                </a:solidFill>
                <a:latin typeface="Tahoma"/>
              </a:rPr>
              <a:t>59,7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660320" y="5083920"/>
            <a:ext cx="62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ff"/>
                </a:solidFill>
                <a:latin typeface="Tahoma"/>
              </a:rPr>
              <a:t>69,9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ИНФОРМИРОВАННОСТЬ В ОТНОШЕНИИ ФАКТОРОВ РИСКА </a:t>
            </a:r>
            <a:br>
              <a:rPr sz="1800"/>
            </a:b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СРЕДИ УЧАЩИХСЯ 8-11 КЛАССОВ МОСКОВСКИХ ШКОЛ (%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692360" y="1700280"/>
          <a:ext cx="612144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700280"/>
                    <a:ext cx="61214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2734560" y="6092640"/>
            <a:ext cx="128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8-9 класс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00240" y="6092640"/>
            <a:ext cx="152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0-11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класс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448400" y="5299920"/>
            <a:ext cx="7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школ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406440" y="1265400"/>
          <a:ext cx="5554800" cy="40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265400"/>
                    <a:ext cx="555480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1697040" y="2612880"/>
            <a:ext cx="63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0a01"/>
                </a:solidFill>
                <a:latin typeface="Arial"/>
              </a:rPr>
              <a:t>42,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7400" y="2859120"/>
            <a:ext cx="63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0a01"/>
                </a:solidFill>
                <a:latin typeface="Arial"/>
              </a:rPr>
              <a:t>57,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22800" y="2743200"/>
            <a:ext cx="2946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олее половины школьников не соблюдает здоровый образ жиз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16360" y="1322280"/>
            <a:ext cx="2554560" cy="1219320"/>
          </a:xfrm>
          <a:custGeom>
            <a:avLst/>
            <a:gdLst>
              <a:gd name="textAreaLeft" fmla="*/ 0 w 2554560"/>
              <a:gd name="textAreaRight" fmla="*/ 2554920 w 255456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СФОРМИРОВАННОСТЬ УСТАНОВОК </a:t>
            </a:r>
            <a:br>
              <a:rPr sz="1800"/>
            </a:b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НА ЗДОРОВЫЙ ОБРАЗ ЖИЗНИ СРЕДИ МАЛЬЧИКОВ </a:t>
            </a:r>
            <a:br>
              <a:rPr sz="1800"/>
            </a:b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И ДЕВОЧЕК 8-11 КЛАССОВ МОСКОВСКИХ ШКОЛ (%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2700360" y="1773360"/>
          <a:ext cx="5952960" cy="42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773360"/>
                    <a:ext cx="5952960" cy="42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399960" y="4365720"/>
          <a:ext cx="2732040" cy="180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960" y="4365720"/>
                    <a:ext cx="273204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"/>
          <p:cNvSpPr/>
          <p:nvPr/>
        </p:nvSpPr>
        <p:spPr>
          <a:xfrm>
            <a:off x="3885480" y="6092640"/>
            <a:ext cx="128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8-9 класс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204960" y="6092640"/>
            <a:ext cx="152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0-11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класс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395280" y="1916280"/>
          <a:ext cx="2732040" cy="1800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5280" y="1916280"/>
                    <a:ext cx="273204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1258920" y="3499560"/>
            <a:ext cx="100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8-9 класс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116000" y="5949360"/>
            <a:ext cx="11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0-11 класс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660320" y="2635920"/>
            <a:ext cx="62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ff"/>
                </a:solidFill>
                <a:latin typeface="Tahoma"/>
              </a:rPr>
              <a:t>52,9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660320" y="5083920"/>
            <a:ext cx="62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ff"/>
                </a:solidFill>
                <a:latin typeface="Tahoma"/>
              </a:rPr>
              <a:t>52,2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СВЯЗЬ ФАКТОРОВ, ОБУСЛОВЛЕННЫХ ОБРАЗОМ ЖИЗНИ ШКОЛЬНИКОВ, И УРОВНЯ ИНФОРМИРОВАННОСТИ </a:t>
            </a:r>
            <a:br>
              <a:rPr sz="1800"/>
            </a:b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И СФОРМИРОВАННОСТИ УСТАНОВОК </a:t>
            </a:r>
            <a:br>
              <a:rPr sz="1800"/>
            </a:b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НА ЗДОРОВЫЙ ОБРАЗ ЖИЗНИ</a:t>
            </a: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4" name="Скругленный прямоугольник 15"/>
          <p:cNvSpPr/>
          <p:nvPr/>
        </p:nvSpPr>
        <p:spPr>
          <a:xfrm>
            <a:off x="3851280" y="3068640"/>
            <a:ext cx="2160720" cy="16556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Факторы риска, обусловленные образом жизни школь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Скругленный прямоугольник 14"/>
          <p:cNvSpPr/>
          <p:nvPr/>
        </p:nvSpPr>
        <p:spPr>
          <a:xfrm>
            <a:off x="6659640" y="3357720"/>
            <a:ext cx="2274840" cy="17269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изкая степень сформирован-ности установок на ЗОЖ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Скругленный прямоугольник 14"/>
          <p:cNvSpPr/>
          <p:nvPr/>
        </p:nvSpPr>
        <p:spPr>
          <a:xfrm>
            <a:off x="900000" y="3429000"/>
            <a:ext cx="2057400" cy="16556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изкая степень информирован-ности в отношении факторов рис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7" name=""/>
          <p:cNvCxnSpPr>
            <a:stCxn id="336" idx="2"/>
            <a:endCxn id="335" idx="2"/>
          </p:cNvCxnSpPr>
          <p:nvPr/>
        </p:nvCxnSpPr>
        <p:spPr>
          <a:xfrm flipH="1" rot="16200000">
            <a:off x="4861800" y="2160360"/>
            <a:ext cx="2160" cy="5869800"/>
          </a:xfrm>
          <a:prstGeom prst="bentConnector3">
            <a:avLst>
              <a:gd name="adj1" fmla="val 13800000"/>
            </a:avLst>
          </a:prstGeom>
          <a:ln w="50760">
            <a:solidFill>
              <a:srgbClr val="66ccff"/>
            </a:solidFill>
            <a:miter/>
            <a:tailEnd len="med" type="triangle" w="med"/>
          </a:ln>
        </p:spPr>
      </p:cxnSp>
      <p:cxnSp>
        <p:nvCxnSpPr>
          <p:cNvPr id="338" name=""/>
          <p:cNvCxnSpPr>
            <a:stCxn id="335" idx="0"/>
            <a:endCxn id="334" idx="0"/>
          </p:cNvCxnSpPr>
          <p:nvPr/>
        </p:nvCxnSpPr>
        <p:spPr>
          <a:xfrm flipV="1" rot="16200000">
            <a:off x="6220800" y="1770480"/>
            <a:ext cx="289440" cy="2865960"/>
          </a:xfrm>
          <a:prstGeom prst="bentConnector3">
            <a:avLst>
              <a:gd name="adj1" fmla="val 175716"/>
            </a:avLst>
          </a:prstGeom>
          <a:ln w="50760">
            <a:solidFill>
              <a:srgbClr val="66ccff"/>
            </a:solidFill>
            <a:miter/>
            <a:headEnd len="med" type="arrow" w="med"/>
          </a:ln>
        </p:spPr>
      </p:cxnSp>
      <p:sp>
        <p:nvSpPr>
          <p:cNvPr id="339" name=""/>
          <p:cNvSpPr/>
          <p:nvPr/>
        </p:nvSpPr>
        <p:spPr>
          <a:xfrm flipH="1">
            <a:off x="2987280" y="3933720"/>
            <a:ext cx="863640" cy="0"/>
          </a:xfrm>
          <a:prstGeom prst="line">
            <a:avLst/>
          </a:prstGeom>
          <a:ln w="54000">
            <a:solidFill>
              <a:srgbClr val="66cc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6011640" y="4076640"/>
            <a:ext cx="865080" cy="0"/>
          </a:xfrm>
          <a:prstGeom prst="line">
            <a:avLst/>
          </a:prstGeom>
          <a:ln w="763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вышение информированности школьников в отношении факторов риск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Формирование у школьников установок на здоровый образ жизн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нижение распространенности факторов риска нарушения здоровья среди школьник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AutoShape 4"/>
          <p:cNvSpPr/>
          <p:nvPr/>
        </p:nvSpPr>
        <p:spPr>
          <a:xfrm>
            <a:off x="3708360" y="1523880"/>
            <a:ext cx="1079640" cy="1079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AutoShape 5"/>
          <p:cNvSpPr/>
          <p:nvPr/>
        </p:nvSpPr>
        <p:spPr>
          <a:xfrm>
            <a:off x="3708360" y="3952800"/>
            <a:ext cx="1079640" cy="1152720"/>
          </a:xfrm>
          <a:prstGeom prst="downArrow">
            <a:avLst>
              <a:gd name="adj1" fmla="val 50000"/>
              <a:gd name="adj2" fmla="val 26692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244160" y="2420280"/>
            <a:ext cx="685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Благодарю за внимание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258920" y="2162160"/>
          <a:ext cx="7345440" cy="40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162160"/>
                    <a:ext cx="7345440" cy="40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8029800" y="60213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Школ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60720" y="206064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856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ahoma"/>
              </a:rPr>
              <a:t>РАСПРОСТРАНЁННОСТЬ НИЗКОЙ ДВИГАТЕЛЬНОЙ АКТИВНОСТИ </a:t>
            </a:r>
            <a:br>
              <a:rPr sz="1600"/>
            </a:br>
            <a:r>
              <a:rPr b="1" lang="en-US" sz="1600" spc="-1" strike="noStrike">
                <a:solidFill>
                  <a:srgbClr val="ffff66"/>
                </a:solidFill>
                <a:latin typeface="Tahoma"/>
              </a:rPr>
              <a:t>СРЕДИ УЧАЩИХСЯ 8-11 КЛАССОВ МОСКОВСКИХ ШКОЛ, 2010 (%)</a:t>
            </a:r>
            <a:endParaRPr b="1" lang="en-US" sz="1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117360"/>
            <a:ext cx="8209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Двигательная активность младших школьников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701800" y="3151080"/>
          <a:ext cx="3822840" cy="1960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1800" y="3151080"/>
                    <a:ext cx="382284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4859280" y="4862520"/>
          <a:ext cx="4038480" cy="1995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4862520"/>
                    <a:ext cx="4038480" cy="19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1440" y="1319040"/>
          <a:ext cx="3500640" cy="1760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0" y="1319040"/>
                    <a:ext cx="3500640" cy="17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2022120" y="809640"/>
            <a:ext cx="203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4,2% 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делают утренню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гимнастик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86440" y="2637000"/>
            <a:ext cx="3319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двигательная активность ограничен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уроками физкультуры в школ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20000" y="3933720"/>
            <a:ext cx="1979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3,3% 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имеют достаточну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длительность прогулок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7"/>
          <a:stretch/>
        </p:blipFill>
        <p:spPr>
          <a:xfrm>
            <a:off x="684360" y="5229360"/>
            <a:ext cx="1150920" cy="100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8"/>
          <a:stretch/>
        </p:blipFill>
        <p:spPr>
          <a:xfrm>
            <a:off x="6877080" y="907920"/>
            <a:ext cx="1368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520120" cy="115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Гипокинезия в школьном возрасте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ассоциирована с отклонениями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 состоянии здоровья:  </a:t>
            </a: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042920" y="1989000"/>
            <a:ext cx="779616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ртериальная гипертенз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замедленное половое созрева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функциональные отклонения и хроническ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болезни системы пищевар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избыточная масса тел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дефицит массы те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Распространенность отдельных нарушений питания  среди старшеклассников московских школ </a:t>
            </a:r>
            <a:br>
              <a:rPr sz="2400"/>
            </a:b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в 1995-1997  и 2005-2007 гг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18960" y="1380960"/>
          <a:ext cx="8099640" cy="445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380960"/>
                    <a:ext cx="8099640" cy="44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Распространенность отдельных нарушений питания  среди младших школьников в динамике обучения (%)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40" name="Object 3"/>
          <p:cNvGraphicFramePr/>
          <p:nvPr/>
        </p:nvGraphicFramePr>
        <p:xfrm>
          <a:off x="0" y="1380960"/>
          <a:ext cx="9144000" cy="532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80960"/>
                    <a:ext cx="9144000" cy="532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ДИНАМИКА НАРУШЕНИЙ ПИТАНИЯ </a:t>
            </a:r>
            <a:br>
              <a:rPr sz="2000"/>
            </a:b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СРЕДИ УЧАЩИХСЯ МОСКОВСКИХ ШКОЛ</a:t>
            </a:r>
            <a:br>
              <a:rPr sz="2000"/>
            </a:b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ЗА ПЕРИОД ОБУЧЕНИЯ (1-6 КЛАССЫ)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1280" y="1916280"/>
          <a:ext cx="9307440" cy="47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916280"/>
                    <a:ext cx="9307440" cy="47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116000" y="2564640"/>
            <a:ext cx="64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(%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3153600"/>
            <a:ext cx="3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92640" y="2276640"/>
            <a:ext cx="26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21363000">
            <a:off x="4991040" y="2997360"/>
            <a:ext cx="28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12000" y="5229360"/>
            <a:ext cx="2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5804640"/>
            <a:ext cx="9717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≤0,01 – достоверность различи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ежду показателями в группа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школьников 1-2 классов и 5-6 класс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8000" y="4653000"/>
            <a:ext cx="38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9,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44760" y="4121280"/>
            <a:ext cx="43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7,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Нарушения питания, </a:t>
            </a:r>
            <a:br>
              <a:rPr sz="2000"/>
            </a:b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ассоциированные с отклонениями </a:t>
            </a:r>
            <a:br>
              <a:rPr sz="2000"/>
            </a:b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в состоянии здоровья школьников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900000" y="1700280"/>
          <a:ext cx="7704360" cy="4889520"/>
        </p:xfrm>
        <a:graphic>
          <a:graphicData uri="http://schemas.openxmlformats.org/drawingml/2006/table">
            <a:tbl>
              <a:tblPr/>
              <a:tblGrid>
                <a:gridCol w="2519640"/>
                <a:gridCol w="2593800"/>
                <a:gridCol w="2590920"/>
              </a:tblGrid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Нарушения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питания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Функциональные отклонения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Хронические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болезни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Приём пищи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2 раза в день и реже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● </a:t>
                      </a:r>
                      <a:r>
                        <a:rPr b="1" lang="en-US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костно-мышечная система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● </a:t>
                      </a:r>
                      <a:r>
                        <a:rPr b="1" lang="en-US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нервная система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Употребление свежих овощей и фруктов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1 раз в неделю и реже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● </a:t>
                      </a:r>
                      <a:r>
                        <a:rPr b="1" lang="ru-RU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кардиопатия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● </a:t>
                      </a:r>
                      <a:r>
                        <a:rPr b="1" lang="en-US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пищеварительная система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● </a:t>
                      </a:r>
                      <a:r>
                        <a:rPr b="1" lang="en-US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эндокринная система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Употребление консервированных продуктов 3 раза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в неделю и чаще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● </a:t>
                      </a:r>
                      <a:r>
                        <a:rPr b="1" lang="en-US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костно-мышечная система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● </a:t>
                      </a:r>
                      <a:r>
                        <a:rPr b="1" lang="en-US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нервная система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Употребление молочных и мясных продуктов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1 раз в неделю и реже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● </a:t>
                      </a:r>
                      <a:r>
                        <a:rPr b="1" lang="en-US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костно-мышечная система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● </a:t>
                      </a:r>
                      <a:r>
                        <a:rPr b="1" lang="en-US" sz="15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артериальная      гипертензия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7:24:54Z</dcterms:created>
  <dc:creator>Храмцов</dc:creator>
  <dc:description/>
  <dc:language>en-US</dc:language>
  <cp:lastModifiedBy>1</cp:lastModifiedBy>
  <dcterms:modified xsi:type="dcterms:W3CDTF">2010-12-02T05:04:44Z</dcterms:modified>
  <cp:revision>452</cp:revision>
  <dc:subject/>
  <dc:title>ЗДОРОВЬЕСБЕРЕГАЮЩИЕ РЕСУРСЫ  РОССИЙСКОЙ ШКОЛЫ</dc:title>
</cp:coreProperties>
</file>